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294-990B-4711-8BC9-7D502C79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88A-5466-43A8-BADC-B396CD47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924-5D8D-4866-9E47-009FBF60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793B-BD63-4216-A893-9FEEBE3A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A59-6051-4669-A79F-47E7C5EB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1D9-1506-4641-AB8D-8D2D3952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CA9-AB14-4817-B272-D9EF21C1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74E-1AAC-4889-949D-5DCDC1C8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44F-84A4-46C2-AD19-01A2A99B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F43-B2E4-464C-9512-9F259619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4D1-9E89-4BEA-9191-A823D005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DC8-6149-4930-88F4-7059308D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DA57-3FA7-405C-9FCC-240CC3CE5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rtworksaustin.com/eclectic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hatsthatbug.com/wp-content/uploads/2008/10/cattail_cat_gavin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ugguide.net/node/view/195430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Bugs Are Ther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Name Som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Butterflies #BB1218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0"/>
            <a:ext cx="563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2388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ug Is This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Cattail Caterpill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371600"/>
            <a:ext cx="7162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077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dynoMoth - Citheronia regal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7652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Image Preview"/>
          <p:cNvPicPr/>
          <p:nvPr/>
        </p:nvPicPr>
        <p:blipFill>
          <a:blip r:embed="rId1"/>
          <a:stretch/>
        </p:blipFill>
        <p:spPr>
          <a:xfrm>
            <a:off x="380880" y="1676520"/>
            <a:ext cx="58676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5:39:34Z</dcterms:created>
  <dc:creator>Littleton Prep</dc:creator>
  <dc:description/>
  <dc:language>en-US</dc:language>
  <cp:lastModifiedBy>Littleton Prep</cp:lastModifiedBy>
  <dcterms:modified xsi:type="dcterms:W3CDTF">2008-10-16T01:29:13Z</dcterms:modified>
  <cp:revision>2</cp:revision>
  <dc:subject/>
  <dc:title>BUGS!!!</dc:title>
</cp:coreProperties>
</file>