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007-1180-4E67-9EAC-0B9EB5C0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1CC-767A-4681-8087-19C7A353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F9D-4D80-46B8-98DD-2729926C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096-E740-43FB-8387-ECE819D3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36A-B488-4C06-AB07-5A3B180F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796-89FB-4ED2-AB66-A45845D4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B78-3565-4458-8AA0-40CA510A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A23-FD6D-4BD1-A8EE-E392460D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E40-CFE9-4874-9B0C-4473316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F4A-B890-4AA6-B12A-E0E205B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2BD-5B69-4A0F-A450-5BD1AD1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19A-EE73-48FD-911C-3585CE5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34F-7948-419E-9B04-F5ADE5CF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yzantine_Empire" TargetMode="External"/><Relationship Id="rId2" Type="http://schemas.openxmlformats.org/officeDocument/2006/relationships/hyperlink" Target="http://en.wikipedia.org/wiki/4th_century" TargetMode="External"/><Relationship Id="rId3" Type="http://schemas.openxmlformats.org/officeDocument/2006/relationships/hyperlink" Target="http://en.wikipedia.org/wiki/Fall_of_Constantinople" TargetMode="External"/><Relationship Id="rId4" Type="http://schemas.openxmlformats.org/officeDocument/2006/relationships/hyperlink" Target="http://en.wikipedia.org/wiki/1453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8/89/Areobind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6/Meister_von_San_Vitale_in_Ravenna_00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4/47/Hagios_demetr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gios_Demetrios" TargetMode="External"/><Relationship Id="rId2" Type="http://schemas.openxmlformats.org/officeDocument/2006/relationships/hyperlink" Target="http://en.wikipedia.org/wiki/Thessaloniki" TargetMode="External"/><Relationship Id="rId3" Type="http://schemas.openxmlformats.org/officeDocument/2006/relationships/hyperlink" Target="http://en.wikipedia.org/wiki/Saint_Demetrius_of_Thessaloniki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commonly used to describe the artistic products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yzantine Empi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rom abou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4th centur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until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ll of Constantinop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45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our own Layered mosaic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 are going to construct a picture by gluing on small pieces of construction pap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rst draw out what you would like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ake out colored pieces of construction paper that you think you w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xt, glue on the pieces! Please overlap and glue on as much as you ca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:Areobind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514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: Mosa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Meister von San Vitale in Ravenna 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371600"/>
            <a:ext cx="79246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art: Mosaic-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c from San Vitale in Ravenna, showing the Emperor Justinian and Bishop Maximian of Ravenna surrounded by clerics and sold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: Mosa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Hagios demetri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art: Mosaic-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c from the church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gios Demetri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ssalonik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late 7th or early 8th century, show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. Demetri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with don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Byzantine iconoclasm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Handy tab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Byzantine iconoclasm."[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os in his chariot, surrounded by symbols of the months and of the zodiac. From Vat. Gr. 1291, the "Handy Tables" of Ptolemy, produced during the reign of Constantine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is period, many Byzantine artists made religious works for chur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with the new Byzantine Iconoclasm period, only “real” religious works were allowed. For example, because paint is not “alive” one could not paint Jesus or any of the sa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n Mosaic-notice the small pieces of different colors and how they create a whole pictu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08:01Z</dcterms:created>
  <dc:creator>Littleton Prep</dc:creator>
  <dc:description/>
  <dc:language>en-US</dc:language>
  <cp:lastModifiedBy>Littleton Prep</cp:lastModifiedBy>
  <dcterms:modified xsi:type="dcterms:W3CDTF">2008-04-11T21:50:34Z</dcterms:modified>
  <cp:revision>10</cp:revision>
  <dc:subject/>
  <dc:title>Byzantine art </dc:title>
</cp:coreProperties>
</file>