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AE459-F4E7-4306-966E-84531EA35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53862-CED1-408A-89D1-F2C43D7C7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650D2-F5D5-4A31-863B-50E0302D0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F33F2-F5BC-4FE9-9369-1AEDC99A0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020B-DCAB-44F7-987B-03B4F6570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6858-CAB7-4A1B-8410-719BEDD2D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AADA9-4BCB-42B1-8D40-613812413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4265B-ECE8-4AE7-9640-BE7C01233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45D19-D167-40F4-AE3A-E4F31DB70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67805-EF12-44C3-9C29-DA04118F9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53D0F-38F8-4697-8DB9-253BE3FFF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D9EF-1541-4B6F-BD7B-255F93A06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37DE-E7C9-407C-AC60-CFB01A97CD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ulture.gouv.fr/culture/arcnat/lascaux/en/"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 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culture.gouv.fr/culture/arcnat/lascaux/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 Ar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ren create a sketch using pencil and oil pastels. The subject matter, style and colors should be related to those seen on video and on example images. (Animals mostly, blacks, browns, tans, white, etc.) </a:t>
            </a:r>
            <a:endParaRPr b="0" lang="en-US" sz="2800" spc="-1" strike="noStrike">
              <a:solidFill>
                <a:srgbClr val="000000"/>
              </a:solidFill>
              <a:latin typeface="Arial"/>
            </a:endParaRPr>
          </a:p>
        </p:txBody>
      </p:sp>
      <p:pic>
        <p:nvPicPr>
          <p:cNvPr id="46" name="" descr=""/>
          <p:cNvPicPr/>
          <p:nvPr/>
        </p:nvPicPr>
        <p:blipFill>
          <a:blip r:embed="rId1"/>
          <a:stretch/>
        </p:blipFill>
        <p:spPr>
          <a:xfrm>
            <a:off x="45720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 Ar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students have completed their sketch, they are ready to make the "stone." To simulate a stone wall texture, students roll clay out into a random shape, not perfectly round, or square. The key is to make the clay look like real stones. Students then rub sand into the surface of their clay slab, creating a texture. The clay is fired before the next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9:47:30Z</dcterms:created>
  <dc:creator>Littleton Prep</dc:creator>
  <dc:description/>
  <dc:language>en-US</dc:language>
  <cp:lastModifiedBy>Littleton Prep</cp:lastModifiedBy>
  <dcterms:modified xsi:type="dcterms:W3CDTF">2008-11-11T20:59:31Z</dcterms:modified>
  <cp:revision>2</cp:revision>
  <dc:subject/>
  <dc:title>Slide 1</dc:title>
</cp:coreProperties>
</file>