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F5E2-C59E-444D-8746-3E80DE2F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43D3-04AC-4A5C-854B-D22C316A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3CBD-8B34-4B28-AE9B-E94830A65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F0E4-D24D-400B-9D8B-FBD4A7F62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3332-1064-4C77-9BCA-20FEA8B9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1F4D-0EDB-4D2D-8FCC-8A1B4131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C553-0C3B-4DD1-8D94-AB5E2846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A215-E45A-4788-B314-4EBF0E21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49C4-1294-4FC6-B63E-B8B006C1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E5D5-1935-4643-A687-65EECC45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E8A9-37EB-4AC5-BFB3-7CA50E92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6D8B-4915-4573-B7E4-2187572C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03E3-AA2B-422B-9573-6B1C845AB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hotorealism" TargetMode="External"/><Relationship Id="rId2" Type="http://schemas.openxmlformats.org/officeDocument/2006/relationships/hyperlink" Target="http://en.wikipedia.org/wiki/Hyperrealism_(painting)" TargetMode="External"/><Relationship Id="rId3" Type="http://schemas.openxmlformats.org/officeDocument/2006/relationships/hyperlink" Target="http://en.wikipedia.org/wiki/University_of_Washington" TargetMode="External"/><Relationship Id="rId4" Type="http://schemas.openxmlformats.org/officeDocument/2006/relationships/hyperlink" Target="http://en.wikipedia.org/wiki/Seattle" TargetMode="External"/><Relationship Id="rId5" Type="http://schemas.openxmlformats.org/officeDocument/2006/relationships/hyperlink" Target="http://en.wikipedia.org/wiki/Yale_University" TargetMode="External"/><Relationship Id="rId6" Type="http://schemas.openxmlformats.org/officeDocument/2006/relationships/hyperlink" Target="http://en.wikipedia.org/wiki/Master_of_Fine_Arts" TargetMode="External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uck 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ost of his early works are very large portraits based on photographs (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hotorealis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or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yperrealis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technique). In 1962, he received his B.A. from th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University of Washingt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in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eattl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 He then attended graduate school at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Yale University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where he received his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MFA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in 1964. After Yale, he lived in Europe for a while on a Fulbright grant. When he returned to the US, he worked as an art teacher at the University of Massachuset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Image:Chuck Close 1.jpg"/>
          <p:cNvPicPr/>
          <p:nvPr/>
        </p:nvPicPr>
        <p:blipFill>
          <a:blip r:embed="rId7"/>
          <a:stretch/>
        </p:blipFill>
        <p:spPr>
          <a:xfrm>
            <a:off x="4648320" y="1523880"/>
            <a:ext cx="4171680" cy="3505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43434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510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chuck_close_at_work"/>
          <p:cNvPicPr/>
          <p:nvPr/>
        </p:nvPicPr>
        <p:blipFill>
          <a:blip r:embed="rId1"/>
          <a:stretch/>
        </p:blipFill>
        <p:spPr>
          <a:xfrm>
            <a:off x="1066680" y="457200"/>
            <a:ext cx="6858000" cy="56386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chuck_close_kiki_detail"/>
          <p:cNvPicPr/>
          <p:nvPr/>
        </p:nvPicPr>
        <p:blipFill>
          <a:blip r:embed="rId1"/>
          <a:stretch/>
        </p:blipFill>
        <p:spPr>
          <a:xfrm>
            <a:off x="914400" y="228600"/>
            <a:ext cx="70866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uck Cl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 photograph that you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etch it ou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it on your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t your ti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x 10 colors in a colors scheme that range in values from almost white to almost bla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uck Cl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Image:Chuck Close 2.jpg"/>
          <p:cNvPicPr/>
          <p:nvPr/>
        </p:nvPicPr>
        <p:blipFill>
          <a:blip r:embed="rId1"/>
          <a:stretch/>
        </p:blipFill>
        <p:spPr>
          <a:xfrm>
            <a:off x="1092240" y="1600200"/>
            <a:ext cx="6958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uck Cl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Picture%2014.png"/>
          <p:cNvPicPr/>
          <p:nvPr/>
        </p:nvPicPr>
        <p:blipFill>
          <a:blip r:embed="rId1"/>
          <a:stretch/>
        </p:blipFill>
        <p:spPr>
          <a:xfrm>
            <a:off x="457200" y="1676520"/>
            <a:ext cx="47242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uck Close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f-Portrait/Scribble/Etching Portfol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ck Close (American, born 1940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619440" cy="4190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uck Close: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ck Close (American, born 1940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3771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uck Close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ck Clos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ik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199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rylic on canva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Close, Kiki"/>
          <p:cNvPicPr/>
          <p:nvPr/>
        </p:nvPicPr>
        <p:blipFill>
          <a:blip r:embed="rId1"/>
          <a:stretch/>
        </p:blipFill>
        <p:spPr>
          <a:xfrm>
            <a:off x="457200" y="1523880"/>
            <a:ext cx="3467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5105160" cy="6705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472464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4572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19:09:26Z</dcterms:created>
  <dc:creator>Littleton Prep</dc:creator>
  <dc:description/>
  <dc:language>en-US</dc:language>
  <cp:lastModifiedBy>Littleton Prep</cp:lastModifiedBy>
  <dcterms:modified xsi:type="dcterms:W3CDTF">2008-10-16T01:37:57Z</dcterms:modified>
  <cp:revision>4</cp:revision>
  <dc:subject/>
  <dc:title>Chuck Close</dc:title>
</cp:coreProperties>
</file>