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9B4-1FDA-4A7F-8D54-856E4529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BFBB-D162-4FA0-960B-87358EEB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6AB-CDD3-4767-9735-4C42164B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03AC-A612-41F7-99E8-269096CC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21B-058D-4514-A54A-E117D607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CFE0-6875-4517-81F2-8D966760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67F-F139-472B-A8CD-BD5C4CF1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3BC-AE2F-4C83-99CC-95B89887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BC7-D3BA-48C0-ADE5-105A8E00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D81-4183-4ECF-A1FF-14D8A113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EF3-B6D0-4B20-9BF5-364ABE97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ABA4-8133-4820-AFAF-664C16BD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6F12-9B28-40D0-8E39-08B8C46EB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ude Monet: Tulips in Hol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 painted with oils. Some people say that his paintings look “foggy”. He was an “impressionist painte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&quot;Tulips in Holland&quot; Pre-made Frame"/>
          <p:cNvPicPr/>
          <p:nvPr/>
        </p:nvPicPr>
        <p:blipFill>
          <a:blip r:embed="rId1"/>
          <a:stretch/>
        </p:blipFill>
        <p:spPr>
          <a:xfrm>
            <a:off x="1295280" y="533520"/>
            <a:ext cx="6782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are going to paint this work of ar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we will draw the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we will use oil past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we will add additional colors with pastels or/and ch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 Impressionist paintings were very colo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19:37:13Z</dcterms:created>
  <dc:creator>Littleton Prep</dc:creator>
  <dc:description/>
  <dc:language>en-US</dc:language>
  <cp:lastModifiedBy>Littleton Prep</cp:lastModifiedBy>
  <dcterms:modified xsi:type="dcterms:W3CDTF">2008-01-22T20:03:54Z</dcterms:modified>
  <cp:revision>2</cp:revision>
  <dc:subject/>
  <dc:title>Claude Monet: Tulips in Holland</dc:title>
</cp:coreProperties>
</file>