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1859-6DF5-48C2-9A24-F9E6825D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B38B-D6B5-4A32-A09A-14112A57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F3A4-1F52-46F5-95DB-AAD9B6C4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C00-49C6-4963-99D2-1ED621E8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8F90-C7DC-456A-BE30-07A5939B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9E27-2BC0-407C-A7A8-67D5F46A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78B4-14F7-4C17-B3E0-9391A056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5264-50B2-4B35-83EA-807ECEA5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45F4-E316-42F4-B1CE-E1D254EF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C5BF-6B75-47A7-86F5-BA9BA8B7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98D2-FD8B-4EF8-B2AF-39A6D2E5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B97A-0B04-4CD8-9A37-F690D61D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801D-44D5-4683-B9D6-1B7D41547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go Riv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’s Hel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go Rivera: 1886-191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Diego Rivera"/>
          <p:cNvPicPr/>
          <p:nvPr/>
        </p:nvPicPr>
        <p:blipFill>
          <a:blip r:embed="rId1"/>
          <a:stretch/>
        </p:blipFill>
        <p:spPr>
          <a:xfrm>
            <a:off x="2666880" y="2133720"/>
            <a:ext cx="3733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her’s Hel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Mother's Helper Art Print by Diego Rivera"/>
          <p:cNvPicPr/>
          <p:nvPr/>
        </p:nvPicPr>
        <p:blipFill>
          <a:blip r:embed="rId1"/>
          <a:stretch/>
        </p:blipFill>
        <p:spPr>
          <a:xfrm>
            <a:off x="2057400" y="1295280"/>
            <a:ext cx="6515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5:37:36Z</dcterms:created>
  <dc:creator>Littleton Prep</dc:creator>
  <dc:description/>
  <dc:language>en-US</dc:language>
  <cp:lastModifiedBy>Littleton Prep</cp:lastModifiedBy>
  <dcterms:modified xsi:type="dcterms:W3CDTF">2008-05-05T15:37:44Z</dcterms:modified>
  <cp:revision>1</cp:revision>
  <dc:subject/>
  <dc:title>Diego Rivera</dc:title>
</cp:coreProperties>
</file>