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D95-05FB-4A11-8083-5C8820AF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ABD-584E-473D-A346-71018946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6A7-9776-4C37-8417-57277027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348-76CE-4DAE-8DCC-26CCC1F6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07F-ABF6-4FC8-B21D-7C574212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750-D7F8-4309-B32C-9E85002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8F4-766C-43D6-AD0F-3C6E38D5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F56-D4AD-4321-B731-D9912995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D83-11DE-4771-8F44-2CCAF48E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27C-6A2F-4515-A115-DE1F8C20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1BA-E4D0-46A9-A59B-0309F4C6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166-9C1F-4BF3-B6E4-4178A3A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E921-E456-4141-A295-37D99DB14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50040" y="1722600"/>
            <a:ext cx="49186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 YOUNG HAR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y Albrecht Dure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1471-152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h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H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j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ggles its no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A Young Hare by Albrecht Durer"/>
          <p:cNvPicPr/>
          <p:nvPr/>
        </p:nvPicPr>
        <p:blipFill>
          <a:blip r:embed="rId1"/>
          <a:stretch/>
        </p:blipFill>
        <p:spPr>
          <a:xfrm>
            <a:off x="2090880" y="571680"/>
            <a:ext cx="496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, we will make our own rabb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given a 12 X 18 sheet of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given a 4 X 18 sheet of green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“lines” into the green paper but DO NOT cut all the way through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it on your paper at the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draw the shapes that I make on your white pieces (11.5 X 8) of paper and then cut them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but not least, the cotton ball ta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9:46:54Z</dcterms:created>
  <dc:creator>Littleton Prep</dc:creator>
  <dc:description/>
  <dc:language>en-US</dc:language>
  <cp:lastModifiedBy>Littleton Prep</cp:lastModifiedBy>
  <dcterms:modified xsi:type="dcterms:W3CDTF">2007-12-21T19:47:30Z</dcterms:modified>
  <cp:revision>1</cp:revision>
  <dc:subject/>
  <dc:title>Slide 1</dc:title>
</cp:coreProperties>
</file>