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035C-EBF4-471D-88F0-EC1CED1E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B88-E7B6-42E6-A916-27C19B20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F4A-39D2-40AA-9CE9-9A98A096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343-46A6-4B87-AEB7-E94BA081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7CC-92D8-4E2E-B127-51B90930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B8D-529C-4BDE-9FFD-C5BDDEDE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624-1CEA-45C5-B20A-31DEBAAD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165-3F27-432B-9C79-6D303A60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74C-364C-48C5-89AE-AD06F84E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AA6-A1DE-4D8F-A4BE-38B541B0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A6E-6233-4E10-8EB2-018B1678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453-B712-4B13-9ADD-9432CA6D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9693-719F-4ED2-98F9-B4555D377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dterms.com/script/main/art.asp?articlekey=440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vard M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ream, 189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 and pastel on boar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1 x 73.5 c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57150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scream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 scream be he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goraphob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raphobi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abnormal and persistent fear of public places or open areas, especially those from which escape could be difficult or help not immediately accessible. Persons with agoraphobia frequently also hav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nic disor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, You Get To Make Your Own Screa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hoose to keep the landscape or make up your own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hoose to keep the person from the painting as the main character of the painting or, you can use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, students will use an 18 X 12 white paper. Students can choose whether they want to use water color or oil pas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requirements: students MUST be true to the strokes shown in the painting-I will demonstra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FU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20:50:03Z</dcterms:created>
  <dc:creator>Littleton Prep</dc:creator>
  <dc:description/>
  <dc:language>en-US</dc:language>
  <cp:lastModifiedBy>Littleton Prep</cp:lastModifiedBy>
  <dcterms:modified xsi:type="dcterms:W3CDTF">2008-02-15T20:50:24Z</dcterms:modified>
  <cp:revision>1</cp:revision>
  <dc:subject/>
  <dc:title>Edvard Munch</dc:title>
</cp:coreProperties>
</file>