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267-0604-41C9-9D3D-7D2DBFE3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D52-E3B2-4060-A701-82C92120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536-58E3-4F96-BC2A-1EB76505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B7E-D8F6-47CF-8490-B943A5EF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3B5-C76D-4A8F-9FB6-161A3446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8503-EED8-416F-95C8-7969905A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55F-F437-4AA8-9EC7-E44CF7F2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59E-A055-4160-BED1-9B6AC83A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84F-D917-4789-B7AA-810F4069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80E-1625-456F-A59C-063F71D0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84C-A609-4AEC-935E-96884709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928-301C-470A-BFBF-2582EAE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154-3E28-4673-B0EF-ECC2F310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ward 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l and the Pussy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wl and the Pussy-cat went to s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In a beautiful pea green boa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ook some honey, and plenty of mone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rapped up in a five pound no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wl looked up to the stars ab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And sang to a small guita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O lovely Pussy! O Pussy my l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What a beautiful Pussy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beautiful Pussy you are!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sy said to the Owl, 'You elegant fowl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How charmingly sweet you sing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et us be married! too long we have tarri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ut what shall we do for a ring?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ailed away, for a year and a d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o the land where the Bong-tree grow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re in a wood a Piggy-wig st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ith a ring at the end of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ring at the end of his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Dear pig, are you willing to sell for one shil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Your ring?' Said the Piggy, 'I will.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took it away, and were married next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y the Turkey who lives on the hi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ined on mince, and slices of quinc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hich they ate with a runcible spoon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nd in hand, on the edge of the san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hey danced by the light of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anced by the light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29:23Z</dcterms:created>
  <dc:creator>Matthew Cleveland</dc:creator>
  <dc:description/>
  <dc:language>en-US</dc:language>
  <cp:lastModifiedBy>Matthew Cleveland</cp:lastModifiedBy>
  <dcterms:modified xsi:type="dcterms:W3CDTF">2008-02-10T18:30:07Z</dcterms:modified>
  <cp:revision>2</cp:revision>
  <dc:subject/>
  <dc:title>Edward Lear</dc:title>
</cp:coreProperties>
</file>