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1DA58-1B3E-4B51-A851-71C88846E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3EC1-2FD6-432D-AA5D-06C4BB424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2990E-5AAC-4308-B68B-F095C6900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3BE23-353A-41C4-830B-4861E36CB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2E96-CE9B-4313-AAC4-4D4701617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54794-C806-45CF-A33F-B77290C7C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6D07-E506-46DA-9970-A63B05942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0A06-6E20-4AE0-A809-6E3E46464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DFDF-FAF3-4264-AE03-CB4C65606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B285A-3EE6-4B69-A271-6679446B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679A-510E-405E-807F-B1F1E7CE4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199B-05E2-4961-80F4-428A4E86A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BB6A-7822-46DB-A7EC-F6F48632B9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amp; Principles of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is continually judged by these elements &amp;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we are finished with this project, you will have a critiqu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both participating in the critique and being able to define what it 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que- A visual or written discussion of a piece of art. Typically this discussion utilizes the elements and principles of art and positive and negative aspects of the piece of art. With negative remarks-it is always essential that the speaker frame things respectfully and offer helpful ad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you will be graded on this projec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rticipation, effort and positive attitude during class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oject grade based on the elements and principles of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quiz over the elements and principles that you will take BEFORE you start your pro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r participation during the critique. You will be required to make at least 2 comments about other students’ work utilizing the elements and principles of design. You will also be required to talk about your own work utilizing the elements and principles of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we going to mak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going to use clay to make pinch pots or, coil pots (your cho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quired to sketch out your pot BEFORE you start on it. This way you have an idea of where you are going before you st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then make your pot and I will put them all in the oven to ba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is, you will be able to paint your p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ly, we will have the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f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pinch pots</a:t>
            </a:r>
            <a:endParaRPr b="0" lang="en-US" sz="4400" spc="-1" strike="noStrike">
              <a:solidFill>
                <a:srgbClr val="000000"/>
              </a:solidFill>
              <a:latin typeface="Arial"/>
            </a:endParaRPr>
          </a:p>
        </p:txBody>
      </p:sp>
      <p:pic>
        <p:nvPicPr>
          <p:cNvPr id="66" name="" descr=""/>
          <p:cNvPicPr/>
          <p:nvPr/>
        </p:nvPicPr>
        <p:blipFill>
          <a:blip r:embed="rId1"/>
          <a:stretch/>
        </p:blipFill>
        <p:spPr>
          <a:xfrm>
            <a:off x="533520" y="167652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304920"/>
            <a:ext cx="8229600" cy="601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 y="9144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762120"/>
            <a:ext cx="822960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7920" y="838080"/>
            <a:ext cx="640080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85800" y="685800"/>
            <a:ext cx="739152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responsible for: Texture and Color-the rest will be extra cre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09480" y="45720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rface of a material which can be experienced through touch/feel or, the piece of art can give the viewer the illusion that that if the viewer was able to touch the piece of art there would be a sensation of texture. Therefore, texture can apply to both 2-dimensional work and 3-dimensional work. If the texture is created to the extent that the viewer would be able to feel “texture” than we would call that “actual tex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sual response to the wavelength of light identified as red, green, blue, and so on; having the physical properties of hue, intensity, and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be responsible for knowing the primary colors: red, yellow and b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colors: orange, purple and green and how to mix primary colors to make secondary col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 of Ar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harmony, balance and var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on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mony is achieved by the repetition of characteristics that are the same or similar. This is also a means to create 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se of equilibrium achieved through implied or actual weight, attention or attraction. Symmetrical balance has the “same thing” on both sides. Asymmetrical balance has “different things” but they “weigh”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e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achieved by opposing, contrasting, changing, elaborating, or diversifying elements in a composition to add individualism and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ill be working with clay for the next projec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you will need to know to work with c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anipulation: The sculptural technique for shaping pliable materials with hands or/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ubtraction: The “taking away” of a materials. The “cutting”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3:37:10Z</dcterms:created>
  <dc:creator>Matthew Cleveland</dc:creator>
  <dc:description/>
  <dc:language>en-US</dc:language>
  <cp:lastModifiedBy>Littleton Prep</cp:lastModifiedBy>
  <dcterms:modified xsi:type="dcterms:W3CDTF">2007-11-28T16:29:03Z</dcterms:modified>
  <cp:revision>3</cp:revision>
  <dc:subject/>
  <dc:title>Elements &amp; Principles of Art</dc:title>
</cp:coreProperties>
</file>