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C1D-7BD2-4594-AC4D-C0761C95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B5DD-F5DB-4C03-81E5-112F1534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AC1-F586-4753-B005-074F80F6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BE9-CABC-4019-987E-C730DEB3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DF15-2F1D-45AA-AFDD-BEC29A33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B543-8F1E-4D51-939A-A12BCE9D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A7C6-68BD-454F-BE4B-1789E3CB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4828-106B-4F92-BAD3-385DCBA2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A417-A3D8-4852-A11A-2721BBAF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4BB-2C42-417D-B3FE-12832580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378-F598-4D26-886C-CD929704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7682-183B-468F-B97F-FB8D4590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5683-C831-418D-9F08-546D5E6A6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emofquotes.com/emilydickinson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emofquotes.com/emilydickinson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oemofquotes.com/emilydickinson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oemofquotes.com/emilydickinson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ily Dickinson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e! I'm expecting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ily Dickins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! I'm expecting you! Was saying Yesterday To Somebody you know That you were due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ily Dickins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ogs got Home last Week - Are settled, and at work - Birds, mostly back - The Clover warm and thick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ily Dickins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'll get my Letter by The seventeenth; Reply Or better, be with me - Yours, F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ite paper 12 X 18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lace the paper vertically “up and dow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ave the students make: Bees, grass, flower stems and flower leaves (but NOT the actual flower), and landscap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ve the students use crayons to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ave each student use a yellow water color “wash” on the paper after finished coloring-the wash will not affect the sections that are covered with cra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Lastly, have the students use tissue paper to make the flowers and staple them on-each student should only get one because each flower should be quite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20:22:16Z</dcterms:created>
  <dc:creator>Littleton Prep</dc:creator>
  <dc:description/>
  <dc:language>en-US</dc:language>
  <cp:lastModifiedBy>Littleton Prep</cp:lastModifiedBy>
  <dcterms:modified xsi:type="dcterms:W3CDTF">2008-02-15T20:35:34Z</dcterms:modified>
  <cp:revision>3</cp:revision>
  <dc:subject/>
  <dc:title>Emily Dickinson </dc:title>
</cp:coreProperties>
</file>