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F6B-B3FB-426E-AE18-792575B0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505-FC82-4861-81DE-6E4136D6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7A9-A0E9-4C59-BFE7-E934DC08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09E-4C1D-4AC5-AAFF-C9E154EA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D79-5F04-463B-8063-09E3D29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D28-21BE-4F82-9CEA-A3E0001B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092-C826-48D0-8B0A-45D87C16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11D-67B1-4658-A5FB-22B8FA89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F59-A839-40DB-9C3D-BF1B452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2C9-267A-4E81-91A7-EA5F6242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149-1A01-4736-A7F8-99F7EFB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103-9AF0-4E5B-884F-2DDA32B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288C-33D2-4465-B40E-A7489C8E4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e! I'm expecting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! I'm expecting you! Was saying Yesterday To Somebody you know That you were du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gs got Home last Week - Are settled, and at work - Birds, mostly back - The Clover warm and thick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ll get my Letter by The seventeenth; Reply Or better, be with me - Yours, F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ite paper 12 X 18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 the paper vertically “up and d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ve the students make: grass, flower stems and flower leaves (but NOT the actual flower), and landscap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the students use crayons to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each student use a yellow water color “wash” on the paper after finished coloring-the wash will not affect the sections that are covered with cra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astly, have the students use tissue paper to make the flowers and staple them on-each student should only get one because each flower should be quit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500120"/>
            <a:ext cx="6096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22:16Z</dcterms:created>
  <dc:creator>Littleton Prep</dc:creator>
  <dc:description/>
  <dc:language>en-US</dc:language>
  <cp:lastModifiedBy>Littleton Prep</cp:lastModifiedBy>
  <dcterms:modified xsi:type="dcterms:W3CDTF">2008-02-25T20:08:20Z</dcterms:modified>
  <cp:revision>3</cp:revision>
  <dc:subject/>
  <dc:title>Emily Dickinson </dc:title>
</cp:coreProperties>
</file>