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05B-9263-4360-94CE-3476F7B8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05C-9DF6-4077-9E84-20044CFD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6FE-89D2-435A-807F-E2337992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3BC-5B7B-444D-8886-F6B46E31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626F-A4C0-495B-8078-1C66BDD4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966-6D47-40A9-80FB-54A8713C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935-E458-42D1-A7A1-DCF3F7EB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3EB-D053-43CE-B94B-5E936A8E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7C6-905A-4ED6-BF43-BC9CBBE0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CC3-37E5-448D-9308-77143579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340-F654-484A-B245-AE2D541A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BFB-4246-4805-8C01-BAEF9227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3D9A-8BD7-467D-BCCB-A4D40D574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bald McNeal Willard (1836-1918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ed “Yankee Doodle” which was later renamed, “Spirit of 76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Historians do not consider this high or fine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he American public love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ard is said to have painted 4 different versions of this piece-probably resulting in another reason that this is not considered “fine 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181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it of 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you think that the American people at the time liked this piece so mu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: American Revolution: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build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hotograph:North portico of the White House, Washington, D.C."/>
          <p:cNvPicPr/>
          <p:nvPr/>
        </p:nvPicPr>
        <p:blipFill>
          <a:blip r:embed="rId1"/>
          <a:stretch/>
        </p:blipFill>
        <p:spPr>
          <a:xfrm>
            <a:off x="1981080" y="1676520"/>
            <a:ext cx="523872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think that both of these things exemplify American Pr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have at school to show our p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ffin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right, we are going to color our griffins and make a seal out of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dd other symbols to the Griffin! Color it, cut it out, glue it onto your construction paper and create your own LP se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1:42:59Z</dcterms:created>
  <dc:creator>Matthew Cleveland</dc:creator>
  <dc:description/>
  <dc:language>en-US</dc:language>
  <cp:lastModifiedBy>Matthew Cleveland</cp:lastModifiedBy>
  <dcterms:modified xsi:type="dcterms:W3CDTF">2007-11-25T22:01:43Z</dcterms:modified>
  <cp:revision>2</cp:revision>
  <dc:subject/>
  <dc:title>Archibald McNeal Willard (1836-1918) </dc:title>
</cp:coreProperties>
</file>