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C146C-518C-478E-B54C-8CE98FF44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29991-CDF2-4AB6-9898-E2AE2699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63D5B-42E5-4CF0-AA43-328F9F4DE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D152C-467F-4437-B22D-DC9DE5E7A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320B-FB5F-4CCF-B04E-2B8991562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E26B2-665E-4418-8885-D713AA751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8F76A-32B6-4724-99E1-C280612DF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3450F-5D30-4897-ABEC-00F48EF28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C0637-E9AD-4004-8908-B3AA15DDC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D6B6C-F1A8-4429-B406-50DA6E86F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6D87-0D48-4EBE-BA17-809DAF5C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051C-9D8E-452A-A4D1-94CA4E43D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3FC9-5C79-4B59-8EBB-4D243F5C3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November_15"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orgia Totti O'Keeffe</a:t>
            </a:r>
            <a:r>
              <a:rPr b="0" lang="en-US" sz="3200" spc="-1" strike="noStrike">
                <a:solidFill>
                  <a:srgbClr val="000000"/>
                </a:solidFill>
                <a:latin typeface="Arial"/>
              </a:rPr>
              <a:t> (</a:t>
            </a:r>
            <a:r>
              <a:rPr b="0" lang="en-US" sz="3200" spc="-1" strike="noStrike" u="sng">
                <a:solidFill>
                  <a:srgbClr val="009999"/>
                </a:solidFill>
                <a:uFillTx/>
                <a:latin typeface="Arial"/>
                <a:hlinkClick r:id="rId1"/>
              </a:rPr>
              <a:t>November 15</a:t>
            </a:r>
            <a:r>
              <a:rPr b="0" lang="en-US" sz="3200" spc="-1" strike="noStrike" u="sng">
                <a:solidFill>
                  <a:srgbClr val="000000"/>
                </a:solidFill>
                <a:uFillTx/>
                <a:latin typeface="Arial"/>
              </a:rPr>
              <a:t>, 1887—March 6, 1986) was an American artis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le Petunias, 1925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Purple Petunias, 1925"/>
          <p:cNvPicPr/>
          <p:nvPr/>
        </p:nvPicPr>
        <p:blipFill>
          <a:blip r:embed="rId1"/>
          <a:stretch/>
        </p:blipFill>
        <p:spPr>
          <a:xfrm>
            <a:off x="762120" y="1523880"/>
            <a:ext cx="426708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the Lake No. 1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From the Lake No. 1"/>
          <p:cNvPicPr/>
          <p:nvPr/>
        </p:nvPicPr>
        <p:blipFill>
          <a:blip r:embed="rId1"/>
          <a:stretch/>
        </p:blipFill>
        <p:spPr>
          <a:xfrm>
            <a:off x="914400" y="144792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te Rose with Larkspur No. 2, 1927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White Rose with Larkspur No. 2, 1927"/>
          <p:cNvPicPr/>
          <p:nvPr/>
        </p:nvPicPr>
        <p:blipFill>
          <a:blip r:embed="rId1"/>
          <a:stretch/>
        </p:blipFill>
        <p:spPr>
          <a:xfrm>
            <a:off x="838080" y="1523880"/>
            <a:ext cx="36576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unflower from Maggie, 1937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A Sunflower from Maggie, 1937"/>
          <p:cNvPicPr/>
          <p:nvPr/>
        </p:nvPicPr>
        <p:blipFill>
          <a:blip r:embed="rId1"/>
          <a:stretch/>
        </p:blipFill>
        <p:spPr>
          <a:xfrm>
            <a:off x="762120" y="16765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sy, 1926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Pansy, 1926"/>
          <p:cNvPicPr/>
          <p:nvPr/>
        </p:nvPicPr>
        <p:blipFill>
          <a:blip r:embed="rId1"/>
          <a:stretch/>
        </p:blipFill>
        <p:spPr>
          <a:xfrm>
            <a:off x="609480" y="1295280"/>
            <a:ext cx="327672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w Skul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Photo of O'Keeffe"/>
          <p:cNvPicPr/>
          <p:nvPr/>
        </p:nvPicPr>
        <p:blipFill>
          <a:blip r:embed="rId1"/>
          <a:stretch/>
        </p:blipFill>
        <p:spPr>
          <a:xfrm>
            <a:off x="533520" y="1600200"/>
            <a:ext cx="382896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the Faraway Nearby, 1937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457200" y="1523880"/>
            <a:ext cx="55530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 White and Blue 1931</a:t>
            </a:r>
            <a:br>
              <a:rPr sz="4000"/>
            </a:b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457200" y="167652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m's Head -White Hollyhock -Little Hills, N.M., 1935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457200" y="1371600"/>
            <a:ext cx="6000840" cy="500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m's Skull with Brown Leaves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quot;Ram's Skull with Brown Leaves&quot; Print"/>
          <p:cNvPicPr/>
          <p:nvPr/>
        </p:nvPicPr>
        <p:blipFill>
          <a:blip r:embed="rId1"/>
          <a:stretch/>
        </p:blipFill>
        <p:spPr>
          <a:xfrm>
            <a:off x="457200" y="1676520"/>
            <a:ext cx="44197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is associated with the American Southwest, where she found artistic inspiration, and particularly New Mexico, where she settled late in life. O'Keeffe has been a major figure in American art since the 1920s. She is chiefly known for paintings in which she synthesized abstraction and representation in paintings of flowers, rocks, shells, animal bones and landscapes. Her paintings present crisply contoured forms that are replete with subtle tonal transitions of varying colors. She often transformed her subject matter into powerful abstract imag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O’Keef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in 1916, Anita Pollitzer took some of O'Keeffe's drawings to Alfred Stieglitz at his </a:t>
            </a:r>
            <a:r>
              <a:rPr b="0" i="1" lang="en-US" sz="2800" spc="-1" strike="noStrike">
                <a:solidFill>
                  <a:srgbClr val="000000"/>
                </a:solidFill>
                <a:latin typeface="Arial"/>
              </a:rPr>
              <a:t>291</a:t>
            </a:r>
            <a:r>
              <a:rPr b="0" lang="en-US" sz="2800" spc="-1" strike="noStrike">
                <a:solidFill>
                  <a:srgbClr val="000000"/>
                </a:solidFill>
                <a:latin typeface="Arial"/>
              </a:rPr>
              <a:t> gallery. He told Anita the drawings were the "purest, finest, sincerest things that had entered 291 in a long while.", and that he would like to show them. O'Keeffe had first visited </a:t>
            </a:r>
            <a:r>
              <a:rPr b="0" i="1" lang="en-US" sz="2800" spc="-1" strike="noStrike">
                <a:solidFill>
                  <a:srgbClr val="000000"/>
                </a:solidFill>
                <a:latin typeface="Arial"/>
              </a:rPr>
              <a:t>291</a:t>
            </a:r>
            <a:r>
              <a:rPr b="0" lang="en-US" sz="2800" spc="-1" strike="noStrike">
                <a:solidFill>
                  <a:srgbClr val="000000"/>
                </a:solidFill>
                <a:latin typeface="Arial"/>
              </a:rPr>
              <a:t> in 1908, but had never talked with Stieglitz, although she had high regard for his opinions as a critic. In April 1916 Stieglitz exhibited ten of her drawing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rgia O’Keeffe: Red Cannon 1923</a:t>
            </a:r>
            <a:endParaRPr b="0" lang="en-US" sz="4000" spc="-1" strike="noStrike">
              <a:solidFill>
                <a:srgbClr val="000000"/>
              </a:solidFill>
              <a:latin typeface="Arial"/>
            </a:endParaRPr>
          </a:p>
        </p:txBody>
      </p:sp>
      <p:pic>
        <p:nvPicPr>
          <p:cNvPr id="48" name="" descr=""/>
          <p:cNvPicPr/>
          <p:nvPr/>
        </p:nvPicPr>
        <p:blipFill>
          <a:blip r:embed="rId1"/>
          <a:stretch/>
        </p:blipFill>
        <p:spPr>
          <a:xfrm>
            <a:off x="1981080" y="1371600"/>
            <a:ext cx="43434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iental Poppies 1927 Oil Painting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1066680" y="1676520"/>
            <a:ext cx="6934320" cy="44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son Weed Oil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914400" y="1600200"/>
            <a:ext cx="64771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py 1927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838080" y="1752480"/>
            <a:ext cx="60962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llow Calla</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838080" y="1676520"/>
            <a:ext cx="601992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Orchid</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685800" y="1600200"/>
            <a:ext cx="4267080" cy="50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16:24:47Z</dcterms:created>
  <dc:creator>Littleton Prep</dc:creator>
  <dc:description/>
  <dc:language>en-US</dc:language>
  <cp:lastModifiedBy>Littleton Prep</cp:lastModifiedBy>
  <dcterms:modified xsi:type="dcterms:W3CDTF">2008-04-01T17:41:43Z</dcterms:modified>
  <cp:revision>5</cp:revision>
  <dc:subject/>
  <dc:title>Georgia O’Keeffe</dc:title>
</cp:coreProperties>
</file>