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63F0-0C4C-413E-AFD2-8A2E7DE2C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88D6-4975-44FC-8BB0-2BF93F52E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1F37-8779-47B1-A00C-85EB800F3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D687-60BE-43EE-9333-9B93CD067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5A5F-DA59-4F50-B8A4-DFDB5263C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5BEE-3CC7-4CA8-9DC0-62B09CB48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FF85-EA18-4DDC-9763-88FAE66F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B733-91D2-47B9-9469-E1C7CB42F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559B-EDB8-49D4-9290-F55DD1D2B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83DC-B574-4AF3-BBB7-79168F2A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2945-BDD9-4A40-8F39-291E5982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B0D0-2014-485B-AB6B-43D97D6A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F943C-2574-4804-A608-550208C03C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nry Matisse: (1869-1954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ple Robe: 19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52578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 do we usually wear a rob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some other things that we wear around the hou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pajam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we wear pajamas to scho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your favorite pajam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ddy Bear wearing pajamas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21:58:55Z</dcterms:created>
  <dc:creator>Littleton Prep</dc:creator>
  <dc:description/>
  <dc:language>en-US</dc:language>
  <cp:lastModifiedBy>Littleton Prep</cp:lastModifiedBy>
  <dcterms:modified xsi:type="dcterms:W3CDTF">2008-02-15T21:59:11Z</dcterms:modified>
  <cp:revision>1</cp:revision>
  <dc:subject/>
  <dc:title>Henry Matisse: (1869-1954) </dc:title>
</cp:coreProperties>
</file>