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968-AB9A-4CAC-BE30-FB9DA7FF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63D-63B0-418A-88A3-1B0C60E7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732-5E0F-4DF0-8CAC-844EF9F9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104-2557-48DC-9920-AC685FEB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850-56EA-4B3C-BDF7-B14FAEFC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287-8FBA-453F-9D7C-F6DB3E5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652-D67E-4F9D-B55A-6E4F4D8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4E03-0ADC-47FE-BE98-B75C2DA2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C77-277C-4F0C-AE1B-4116AF37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974-3459-4077-86F5-A5E9C06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89F-7D5E-4FC7-89B1-0D0433A1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F98-2C14-4EDC-9DF4-F8B20EF2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44A5-5046-4807-8A43-876A230E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raw Han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ope that this help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part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952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Hands Part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5562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9:17Z</dcterms:created>
  <dc:creator>Littleton Prep</dc:creator>
  <dc:description/>
  <dc:language>en-US</dc:language>
  <cp:lastModifiedBy>Littleton Prep</cp:lastModifiedBy>
  <dcterms:modified xsi:type="dcterms:W3CDTF">2008-10-13T15:19:34Z</dcterms:modified>
  <cp:revision>1</cp:revision>
  <dc:subject/>
  <dc:title>How To Draw Hands!</dc:title>
</cp:coreProperties>
</file>