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094-9822-4D21-8C7D-42BEB4BB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B14-BB96-41EE-930A-B0857ABF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D4D-D512-4F86-872C-A60D32D9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441-C2B8-40DC-8F11-3E7DF291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6B0-7157-4B88-ABE3-3743C22C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525-847E-4427-8AA1-B88D66C5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508-1946-40F6-A9F3-8B1EC4B0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457-D68D-496E-A4E4-C252D101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3EE-7B3B-4568-BDE3-B579FF1C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C25-EF82-4EDE-B94A-10BD27C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E16-209F-4356-8EA8-917524ED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F11-C1BB-4FB9-B3C0-A8070E9B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9622-C06C-4F9D-8449-0CD02C36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cyclopedia.com/history/harlem-renaissance.htm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rlem Renaissa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Painter, 1917-2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 Law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rence, Jacob, 1917–2000, American painter, b. Atlantic City, N.J. In Lawrence's work social themes, often detailing the African-American experience, are expressed in colorfully angular, simplified, expressive, and richly decorative figurative effects. He executed many cycles of paintings, often narra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Jacob Lawrence - Parade - Art Prints and Posters"/>
          <p:cNvPicPr/>
          <p:nvPr/>
        </p:nvPicPr>
        <p:blipFill>
          <a:blip r:embed="rId1"/>
          <a:stretch/>
        </p:blipFill>
        <p:spPr>
          <a:xfrm>
            <a:off x="914400" y="1676520"/>
            <a:ext cx="5791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You Get TO Make Your Own Pa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things do we see at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s of year do we have para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at occa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n the back of your paper of things that you have seen in pa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what kinds of parades you hav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LIGH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5:31:51Z</dcterms:created>
  <dc:creator>Littleton Prep</dc:creator>
  <dc:description/>
  <dc:language>en-US</dc:language>
  <cp:lastModifiedBy>Littleton Prep</cp:lastModifiedBy>
  <dcterms:modified xsi:type="dcterms:W3CDTF">2008-03-11T19:31:05Z</dcterms:modified>
  <cp:revision>1</cp:revision>
  <dc:subject/>
  <dc:title>Jacob Lawrence </dc:title>
</cp:coreProperties>
</file>