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20D-8131-42A0-AA80-85110E5B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C6B1-D79A-4291-99BE-525EFC21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F04-2B68-4507-94CE-526F22AF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5A4-AB78-453C-BEA0-5E959239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273-943C-4270-ACF0-B80CE149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C98C-076A-47DB-8B22-B3976935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F10-82A3-4ECB-9CE4-F1A6415A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B63-4382-4AD4-B675-F72A7BFA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71F-EF2F-4AB9-853D-CC4ED107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59D-4981-4F5A-AE06-33B08719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976-EA8E-4C43-86A8-EB85CCAF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090-0D55-4815-8C3E-17A41805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E50D-2FFB-4DE4-B03A-DC9315101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rtcyclopedia.com/history/harlem-renaissance.htm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 Lawr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-America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rlem Renaissan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Painter, 1917-2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 Law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rence, Jacob, 1917–2000, American painter, b. Atlantic City, N.J. In Lawrence's work social themes, often detailing the African-American experience, are expressed in colorfully angular, simplified, expressive, and richly decorative figurative effects. He executed many cycles of paintings, often narrat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Jacob Lawrence - Parade - Art Prints and Posters"/>
          <p:cNvPicPr/>
          <p:nvPr/>
        </p:nvPicPr>
        <p:blipFill>
          <a:blip r:embed="rId1"/>
          <a:stretch/>
        </p:blipFill>
        <p:spPr>
          <a:xfrm>
            <a:off x="914400" y="1676520"/>
            <a:ext cx="5791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You Get TO Make Your Own Para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things do we see at pa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s of year do we have pa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hat occa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n the back of your paper of things that you have seen in pa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f what kinds of parades you have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LIGHT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5:31:51Z</dcterms:created>
  <dc:creator>Littleton Prep</dc:creator>
  <dc:description/>
  <dc:language>en-US</dc:language>
  <cp:lastModifiedBy>Littleton Prep</cp:lastModifiedBy>
  <dcterms:modified xsi:type="dcterms:W3CDTF">2008-03-11T15:32:10Z</dcterms:modified>
  <cp:revision>1</cp:revision>
  <dc:subject/>
  <dc:title>Jacob Lawrence </dc:title>
</cp:coreProperties>
</file>