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FCF-FC42-4D2F-8B58-48A63BD7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73C-CD4D-4945-A3F1-FF49529A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F03-9F04-497F-8788-B11FA1BF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F3F-CEB9-4271-A712-4B066152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324-EA97-4C35-8640-A6FFE5FB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FB2-6311-4979-8A35-F52BAB2A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A3A-9C5F-4FE7-9EDE-A9566F28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B8B-7978-46DB-BFEB-568AFBE6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05E-D4AE-410F-A559-390F2F50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4D0-E7D9-4417-9BF5-1086BCFA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A40B-0E25-4555-9ED8-3FA3A766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8C4-6F49-407D-922F-AD60A6A7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FF03-C265-4916-907A-957EC7B2E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onelyplanet.com/worldguide/destinations/asia/japan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kimo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1907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major cities in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yo: The capit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inaw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yot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a map of Japan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Map of Jap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e flag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Hinomaru, Japan's national flag (364x254)"/>
          <p:cNvPicPr/>
          <p:nvPr/>
        </p:nvPicPr>
        <p:blipFill>
          <a:blip r:embed="rId1"/>
          <a:stretch/>
        </p:blipFill>
        <p:spPr>
          <a:xfrm>
            <a:off x="533520" y="1676520"/>
            <a:ext cx="6172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ese F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mens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lag has a width/length ratio of 7:10. The sun, a circle centered on the flag, has a diameter of 3/5 the width. (The sun actually is positioned 1/100th the length closer to the pole edge of the flag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6:14:20Z</dcterms:created>
  <dc:creator>Littleton Prep</dc:creator>
  <dc:description/>
  <dc:language>en-US</dc:language>
  <cp:lastModifiedBy>Littleton Prep</cp:lastModifiedBy>
  <dcterms:modified xsi:type="dcterms:W3CDTF">2008-03-11T16:19:25Z</dcterms:modified>
  <cp:revision>2</cp:revision>
  <dc:subject/>
  <dc:title>Japan</dc:title>
</cp:coreProperties>
</file>