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08F-5E13-487F-BEAC-18EE87AF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DEA-6406-471C-9495-37707D5A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F01-37D7-4C1C-8D40-C40B21DB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156-DAF7-4547-AFBC-971B1480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57D-A547-44D3-A181-D689CDA0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7DE1-D755-4A1E-A2CE-05289DC2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FA7-D22A-4E64-A80F-6D1D4482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0B93-E055-452D-A30B-43F64B97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5B2-2B80-49F6-9F58-F7DB3E14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912-5700-48DB-B4DE-5CA7D35B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94A-1B0D-45F6-8874-5D6AED93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000-2FA6-41DC-BBBC-5AADCBB5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CBCE-61F8-4111-B437-2BD94A5C7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n M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and Dog in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eople and Dog in the Sun Art Print by Joan Miro"/>
          <p:cNvPicPr/>
          <p:nvPr/>
        </p:nvPicPr>
        <p:blipFill>
          <a:blip r:embed="rId1"/>
          <a:stretch/>
        </p:blipFill>
        <p:spPr>
          <a:xfrm>
            <a:off x="2362320" y="304920"/>
            <a:ext cx="47242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n Miro: 1893-198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name is a Spanish word for "he looked", with the accent on the "o" in "Miro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an Miro was a Spanish artist an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urrealist mov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n Miro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inting funn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wo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they look strang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y connected or disconnect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e or togeth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outlines with your f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38148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n Miro` Upside-dow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inting funn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wo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they look strang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y connected or disconnect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ne or togeth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the outlines with your f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338148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an Miro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you will have the chance to draw and color this Joan Miro` picture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u are finished, you can decide HOW YOU want to hang i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2:11:31Z</dcterms:created>
  <dc:creator>Littleton Prep</dc:creator>
  <dc:description/>
  <dc:language>en-US</dc:language>
  <cp:lastModifiedBy>Littleton Prep</cp:lastModifiedBy>
  <dcterms:modified xsi:type="dcterms:W3CDTF">2008-03-07T22:13:22Z</dcterms:modified>
  <cp:revision>2</cp:revision>
  <dc:subject/>
  <dc:title>Joan Miro</dc:title>
</cp:coreProperties>
</file>