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910-0CE8-4AED-BC97-08F7289D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C47-4FF6-4972-A098-6BC3CB16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789-2676-4855-BCB9-09560079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038-FE98-4720-92F7-8360116C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FF9C3-76B3-4215-843A-41136700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B1F95-9934-4F9E-A0B0-7096787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E04C6-F52C-41B5-A8E7-B7885569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F3973-DDA1-4F65-B223-3282AD4C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E95BE-B8AD-4EFA-9614-BA958B32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ABC5A-4499-4FB0-91A5-186F7A75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150D5-42FF-4EF2-A3F6-87A68C7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D43-9BAF-479F-B7DC-7DDD04E9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D9988-D604-4534-A16D-3B9B1B8F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DEFC7-4099-43EE-B6E3-F316A457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6AA78-9C19-41CA-BDB6-7C8093F9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16E81-65BC-4DB6-AFA2-1C223032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3759D-2948-4532-8053-EC9A650B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1A6-22C0-45E0-861E-6CB16103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7BE-F7B2-4E9B-9A1D-1C704CC9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53A-B6F8-42B6-B2E9-9A67264A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0D6-6528-4118-808A-0A0C0279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66D-ABAB-4582-AFCA-0A75AFA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10C-DBF3-4F99-BDB1-AF4F9968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B13-6114-450D-AD68-EF3DDC4C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D256-C899-4392-A8C5-76CF6D205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3EEC-6CF0-4415-9045-D1A6931579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I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, Wavy, thick, thin, zigz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are going to make a snow landscape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yarn for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ifferent ways can land/ground lo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a straight 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hil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mount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p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either a light blue or dark blue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what kind of background you want and use the yarn to ma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the yarn onto your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one of your teachers what kind of line you used to make the background that you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else can you mak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gluing the yarn on your paper, you need to decide what else you want to b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-houses, trees, clouds, people, snowmen, birds,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or 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raw your sen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color in your scenery with cray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tton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glue the cotton onto your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cotton look like s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litter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! Glit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some glue on your paper (small amoun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put the glue where you would like the glitter to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the glitter to make the “snow” spark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ished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home you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35:13Z</dcterms:created>
  <dc:creator>Matthew Cleveland</dc:creator>
  <dc:description/>
  <dc:language>en-US</dc:language>
  <cp:lastModifiedBy>Matthew Cleveland</cp:lastModifiedBy>
  <dcterms:modified xsi:type="dcterms:W3CDTF">2007-11-25T19:51:07Z</dcterms:modified>
  <cp:revision>3</cp:revision>
  <dc:subject/>
  <dc:title>LINE</dc:title>
</cp:coreProperties>
</file>