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9AF-D254-4105-807D-09F7DB56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63C-449D-469D-9B56-75A25132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028-421B-41AA-BC33-23113632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AC8-D054-4E95-8527-8B401B77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762-3C13-4642-BB81-5AADEB0E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3AE-4152-41B8-A9ED-5199015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8E9-0A8B-46DC-BCC5-BF5BA860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D31-0B41-4E32-A36D-FA45203E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12B-4FA5-4698-8415-6471896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8D1B-C68D-43EF-B6DC-BD6BEF5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D7F-91F9-4FAC-B885-5E6C068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631-9750-4FBE-895C-BD185628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2BC-8591-4CE4-8682-0CE61EF5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c.edu/artaccess/AA_Impressionist/pages/IMP_glossary5.shtml#Cassatt" TargetMode="External"/><Relationship Id="rId2" Type="http://schemas.openxmlformats.org/officeDocument/2006/relationships/hyperlink" Target="http://www.artic.edu/artaccess/AA_Impressionist/pages/IMP_glossary2.shtml#impressionism" TargetMode="External"/><Relationship Id="rId3" Type="http://schemas.openxmlformats.org/officeDocument/2006/relationships/hyperlink" Target="http://www.artic.edu/artaccess/AA_Impressionist/pages/IMP_glossary5.shtml#Degas" TargetMode="External"/><Relationship Id="rId4" Type="http://schemas.openxmlformats.org/officeDocument/2006/relationships/hyperlink" Target="http://www.artic.edu/artaccess/AA_Impressionist/pages/IMP_glossary1.shtml#draftsman" TargetMode="External"/><Relationship Id="rId5" Type="http://schemas.openxmlformats.org/officeDocument/2006/relationships/hyperlink" Target="http://www.artic.edu/artaccess/AA_Impressionist/pages/IMP_glossary1.shtml#asymmetrical" TargetMode="External"/><Relationship Id="rId6" Type="http://schemas.openxmlformats.org/officeDocument/2006/relationships/hyperlink" Target="http://www.artic.edu/artaccess/AA_Impressionist/pages/IMP_glossary1.shtml#composition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: 1844-192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h: 18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Cassatt Mary - The Bath"/>
          <p:cNvPicPr/>
          <p:nvPr/>
        </p:nvPicPr>
        <p:blipFill>
          <a:blip r:embed="rId1"/>
          <a:stretch/>
        </p:blipFill>
        <p:spPr>
          <a:xfrm>
            <a:off x="213372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y Cassat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e only American to exhibit with the origina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mpressioni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. Like her frie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he was a highly ski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rafts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preferred unposed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symmetr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pos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hild's Bat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rcular shapes of the figures’ heads, the basin, and the pitcher, as well as the striped pattern of the woman’s dress animate the portrait of a woman bathing a child. Cassatt’s unusual vantage point (from above) as well as her choice of a female subject show her interest in Japane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odblock pr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had become extremely popular in France at th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y paintings, pastels, and prints in which Cassatt depicted children being bathed, dressed, read to, held, or nursed reflect the most advanced 19th-century ideas about raising children. After 1870, French scientists and physicians encouraged mothers (instea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t-nur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annies) to care for their children and suggested modern approaches to health and personal hygiene, including regular bathing. In the face of seve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pidemics in the mid-1880s, bathing was encouraged not only as a remedy for body odors but as a preventative measure agains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we are going to pretend that we are Mary Cassat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given a large sheet of white drawing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raw this picture to the best of your abilities-it does NOT have to be perf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raw 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we will use colored pencils to color in the pic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35:33Z</dcterms:created>
  <dc:creator>Littleton Prep</dc:creator>
  <dc:description/>
  <dc:language>en-US</dc:language>
  <cp:lastModifiedBy>Littleton Prep</cp:lastModifiedBy>
  <dcterms:modified xsi:type="dcterms:W3CDTF">2008-03-31T19:17:51Z</dcterms:modified>
  <cp:revision>2</cp:revision>
  <dc:subject/>
  <dc:title>Mary Cassatt: 1844-1926 </dc:title>
</cp:coreProperties>
</file>