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E7A-2CF2-4CE1-8E3C-E8DE4FC2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017-D1C9-49A6-AF29-FA9D207F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291-219B-4533-B2BD-533FB111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E4D-86B8-4BB2-9A8A-1C5DDF61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61C3-2BCD-45CA-9CC9-814BCD95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552-9D3B-454E-A6E6-4EC0058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DC5-1E83-4BF4-9474-5D325E53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2D1-8839-4FFF-985C-152383E8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9680-237F-420F-A154-DD38A8F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0BAF-4867-4B65-B06E-DCF2FCDC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C069-3AD5-434C-B4E2-07FFA4B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599-72A5-4588-B317-296D9A07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A46F-5457-4F23-A73B-ED261DD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587A-2B2D-4CED-997B-429FAA6E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3513-B8CB-45A0-9F03-A0D1258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993-88DD-40FF-895F-BE9C4EEA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E5AD-B47E-4D10-8CC6-3C285D92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79A-5D8E-4F48-A2BF-1E32A7E5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BFA-45EF-4233-9217-3522197C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84B-B6F5-498B-AFDA-50B3FA5B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CA8-C40F-4A2C-A425-691F4379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F2BF-A204-4642-A387-EE208BB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928-296E-470C-AEE0-4EBE29F1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F72-664B-4BA9-9AD7-41D2F8C5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830-869D-48FF-BEEA-ACB992E5EF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7F74-4EDC-4668-ACCD-0F3D343378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pasorugs.com/indianart/masks/mask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lpasorugs.com/indianart/masks/mask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sks have appeared in many different cultur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mas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ts look at some masks made by India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447920"/>
            <a:ext cx="3504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w It Is Time For You To Make Your Own Mask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ease draw out/sketch out how you would like your mask to look before you st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22:37Z</dcterms:created>
  <dc:creator>Matthew Cleveland</dc:creator>
  <dc:description/>
  <dc:language>en-US</dc:language>
  <cp:lastModifiedBy>Matthew Cleveland</cp:lastModifiedBy>
  <dcterms:modified xsi:type="dcterms:W3CDTF">2007-11-25T21:38:44Z</dcterms:modified>
  <cp:revision>2</cp:revision>
  <dc:subject/>
  <dc:title>Masks have appeared in many diferent cultures</dc:title>
</cp:coreProperties>
</file>