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5423-B0EC-42C5-A09B-E0CFD366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3772-D748-4361-8991-26445E89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D102-7FD7-4B21-BD93-A72DB703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2989-768B-49B6-B2B4-F945B2CE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DCE0-0208-4DE7-82F5-D6583F62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E44A-35ED-4F12-B89C-C6405071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ED1B-F316-4AC8-B38F-D90E8B95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34CC-373C-43E8-B500-293434E0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BC26-CD68-4F50-8422-ADB306F2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50A3-836F-4DFA-9692-06A8ED2C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2373-94A4-4454-A348-C9BD4587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8661-7D11-49CD-AE6E-510D9B09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A1A7-A976-4DF4-9087-820704AA3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Three_Musicians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d/d1/Picasso_three_musicians_moma_2006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blo Picasso Spanish, 1881-197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ree Musicia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21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Image:Picasso three musicians moma 200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533520"/>
            <a:ext cx="6343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20:10:05Z</dcterms:created>
  <dc:creator>Littleton Prep</dc:creator>
  <dc:description/>
  <dc:language>en-US</dc:language>
  <cp:lastModifiedBy>Littleton Prep</cp:lastModifiedBy>
  <dcterms:modified xsi:type="dcterms:W3CDTF">2008-12-02T20:12:04Z</dcterms:modified>
  <cp:revision>1</cp:revision>
  <dc:subject/>
  <dc:title>Pablo Picasso Spanish, 1881-1973</dc:title>
</cp:coreProperties>
</file>