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2EA-F046-4E6D-AC66-5315FF2E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4A69-936F-44E3-BAD1-35E82F77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C7A-09BF-434B-B208-7360960E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048-A146-4631-A259-6D7E858C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66E-A0AD-4CC9-B09A-A738002F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68D-B93A-4D2A-8D80-94AE91D6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1A3-7C78-444F-AB2E-CCAA25F6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BFC-0CEC-4D47-877C-A5556CBA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1E6-CAD0-49F1-9394-7613607E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D1B-8A8D-480D-935B-FB5ED1D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E14-7D35-4854-B20B-D07848CD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E45-2CDF-4D14-9130-3E9A9D09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9242-31DA-4653-A3B2-5DD245725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blo 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blo Picasso. (Spanish, 1881-197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wo Girls Reading art print by Pablo Picasso"/>
          <p:cNvPicPr/>
          <p:nvPr/>
        </p:nvPicPr>
        <p:blipFill>
          <a:blip r:embed="rId1"/>
          <a:stretch/>
        </p:blipFill>
        <p:spPr>
          <a:xfrm>
            <a:off x="457200" y="1295280"/>
            <a:ext cx="541008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Girls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w you have the chance to be Pablo Picasso to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Use your pencil to lightly draw what you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Use colors to reproduce the colors that you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oes this picture remind you of any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Enj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8:56:11Z</dcterms:created>
  <dc:creator>Littleton Prep</dc:creator>
  <dc:description/>
  <dc:language>en-US</dc:language>
  <cp:lastModifiedBy>Littleton Prep</cp:lastModifiedBy>
  <dcterms:modified xsi:type="dcterms:W3CDTF">2008-04-23T18:56:22Z</dcterms:modified>
  <cp:revision>1</cp:revision>
  <dc:subject/>
  <dc:title>Pablo Picasso</dc:title>
</cp:coreProperties>
</file>