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F4B-42BD-4492-9884-C4DB21EB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C614-264E-4737-B290-9CC78801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129-C5A7-4D3C-ACF3-957E4222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0F5F-5511-4BA6-BD44-34F5026E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EE7-F8AB-4C68-B803-FC6A267C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018-CC62-491F-96CA-C15165C8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ECA0-316C-451E-830E-E83397B9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64D-DBE3-4B26-8086-D2D3AF9B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A6E-9EA9-4497-B6B3-9CA6F94A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C432-39F3-4524-B07B-41D9E9BD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9AD-F6C7-474E-9C6A-B5A98F0F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7375-BA97-4133-8412-759A8742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95C3-BF45-4B13-8276-C05B4557C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l Kl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and 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Paul Klee. Cat and Bird. 1928"/>
          <p:cNvPicPr/>
          <p:nvPr/>
        </p:nvPicPr>
        <p:blipFill>
          <a:blip r:embed="rId1"/>
          <a:stretch/>
        </p:blipFill>
        <p:spPr>
          <a:xfrm>
            <a:off x="609480" y="152280"/>
            <a:ext cx="79250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l Kle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, born Switzerland. 1879-19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and Bird painted in 19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find the bir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a picture of the whole cat or just the f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about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e cat look happ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going to draw the cat! Make sure that you use LIGHT lin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we are going to color the c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2:48:36Z</dcterms:created>
  <dc:creator>Littleton Prep</dc:creator>
  <dc:description/>
  <dc:language>en-US</dc:language>
  <cp:lastModifiedBy>Littleton Prep</cp:lastModifiedBy>
  <dcterms:modified xsi:type="dcterms:W3CDTF">2008-03-07T22:48:58Z</dcterms:modified>
  <cp:revision>1</cp:revision>
  <dc:subject/>
  <dc:title>Paul Klee</dc:title>
</cp:coreProperties>
</file>