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A28-0CBC-4036-9182-D9152AD2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76E-0EE8-4A79-AFDD-D9773C05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46A-5464-4455-9F13-B819AD22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A71-6FEB-4AA6-8F3F-43EDE45B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3C78-3CEF-4C75-B662-BEDBA45F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90C-5D48-42F7-96AD-4A9C08B2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209-B123-44A5-B752-B6A08FC5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EBDD-2519-47A3-AF52-78189154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42D-2126-4686-AC2D-20023D1D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109-6D7A-4A69-A310-7AE7847F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13B-3DD1-43DE-A6D7-7501B49E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6BD-893F-429A-A0D4-5B4C929C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6F63-ADDC-4393-A677-E47CF61BF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Impress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sts from Core Knowled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Cezanne, Georges Seurat, Vincent Van Gogh, Paul Gaugu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ri Toulouse-Lautre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33:49Z</dcterms:created>
  <dc:creator>Littleton Prep</dc:creator>
  <dc:description/>
  <dc:language>en-US</dc:language>
  <cp:lastModifiedBy>Littleton Prep</cp:lastModifiedBy>
  <dcterms:modified xsi:type="dcterms:W3CDTF">2008-11-20T16:34:01Z</dcterms:modified>
  <cp:revision>1</cp:revision>
  <dc:subject/>
  <dc:title>Post Impressionism</dc:title>
</cp:coreProperties>
</file>