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A5B-DD70-4CA7-9A45-0304947D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1F3-8717-439E-A24C-DB188E86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B90-F42E-4536-B32B-ECA6843E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6BF-60DD-4CE8-961A-DE55A044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870-00F5-4361-935E-38712B14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94C-6EE7-4C5C-9D62-63829E9B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DC6-64E0-4675-994E-DE593B2C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74D-028A-48B5-BE28-32A67823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DB4-E7A1-449B-BCD5-37B41EF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59B-EC3B-4235-935D-A1B75261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2ED-6FF5-4B86-AB4B-229C8B08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FC3-FFBA-4EBD-8363-68119C1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757A-230F-4DD2-9AD8-279F55CA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7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9760" y="900000"/>
            <a:ext cx="81244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0:59:10Z</dcterms:created>
  <dc:creator>Littleton Prep</dc:creator>
  <dc:description/>
  <dc:language>en-US</dc:language>
  <cp:lastModifiedBy>Littleton Prep</cp:lastModifiedBy>
  <dcterms:modified xsi:type="dcterms:W3CDTF">2007-12-04T20:59:24Z</dcterms:modified>
  <cp:revision>1</cp:revision>
  <dc:subject/>
  <dc:title>Slide 1</dc:title>
</cp:coreProperties>
</file>