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F27-F7DE-4B15-850A-36A25867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433-F3FF-4B68-B8C9-83BB4077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E89-2755-46FF-BA7B-9D62217A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2E97-6265-49AF-83DF-71E75F0F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701-338A-4A84-9C27-CD19DF6E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D86-235A-4507-805D-9244DD58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301-50E0-48D9-8F8A-7F1BC678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B7C-099E-484D-9D2A-3B598BE4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82D-650A-438A-9E42-F01038B6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844-8BF7-4C27-85C7-F8010155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93C-F5EE-42E7-86B0-EC4FBAAF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0D6-9781-48B1-ABD0-A6DE8858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00D7-635F-40A9-BCF2-F6CB3DA44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rench_art" TargetMode="External"/><Relationship Id="rId2" Type="http://schemas.openxmlformats.org/officeDocument/2006/relationships/hyperlink" Target="http://en.wikipedia.org/wiki/Interior_design" TargetMode="External"/><Relationship Id="rId3" Type="http://schemas.openxmlformats.org/officeDocument/2006/relationships/hyperlink" Target="http://en.wikipedia.org/wiki/Tapestry" TargetMode="External"/><Relationship Id="rId4" Type="http://schemas.openxmlformats.org/officeDocument/2006/relationships/hyperlink" Target="http://en.wikipedia.org/wiki/Neoclassicism" TargetMode="External"/><Relationship Id="rId5" Type="http://schemas.openxmlformats.org/officeDocument/2006/relationships/hyperlink" Target="http://en.wikipedia.org/wiki/Catherine_Palace" TargetMode="External"/><Relationship Id="rId6" Type="http://schemas.openxmlformats.org/officeDocument/2006/relationships/hyperlink" Target="http://en.wikipedia.org/wiki/Tsarskoye_Selo" TargetMode="External"/><Relationship Id="rId7" Type="http://schemas.openxmlformats.org/officeDocument/2006/relationships/hyperlink" Target="http://en.wikipedia.org/wiki/Tsarskoye_Selo" TargetMode="External"/><Relationship Id="rId8" Type="http://schemas.openxmlformats.org/officeDocument/2006/relationships/hyperlink" Target="http://en.wikipedia.org/wiki/Tsarskoye_Selo" TargetMode="External"/><Relationship Id="rId9" Type="http://schemas.openxmlformats.org/officeDocument/2006/relationships/hyperlink" Target="http://en.wikipedia.org/wiki/Image:Catherine_Palace_ballroom.jpg" TargetMode="External"/><Relationship Id="rId1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herine_Palace" TargetMode="External"/><Relationship Id="rId2" Type="http://schemas.openxmlformats.org/officeDocument/2006/relationships/hyperlink" Target="http://en.wikipedia.org/wiki/Tsarskoye_Selo" TargetMode="External"/><Relationship Id="rId3" Type="http://schemas.openxmlformats.org/officeDocument/2006/relationships/hyperlink" Target="http://en.wikipedia.org/wiki/Tsarskoye_Selo" TargetMode="External"/><Relationship Id="rId4" Type="http://schemas.openxmlformats.org/officeDocument/2006/relationships/hyperlink" Target="http://en.wikipedia.org/wiki/Tsarskoye_Selo" TargetMode="External"/><Relationship Id="rId5" Type="http://schemas.openxmlformats.org/officeDocument/2006/relationships/hyperlink" Target="http://en.wikipedia.org/wiki/Image:Ottobeuren-basilika.jpg" TargetMode="External"/><Relationship Id="rId6" Type="http://schemas.openxmlformats.org/officeDocument/2006/relationships/hyperlink" Target="http://en.wikipedia.org/wiki/Baroque" TargetMode="External"/><Relationship Id="rId7" Type="http://schemas.openxmlformats.org/officeDocument/2006/relationships/hyperlink" Target="http://en.wikipedia.org/wiki/Colloquialism" TargetMode="External"/><Relationship Id="rId8" Type="http://schemas.openxmlformats.org/officeDocument/2006/relationships/hyperlink" Target="http://en.wikipedia.org/wiki/Art_historians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herine_Palace" TargetMode="External"/><Relationship Id="rId2" Type="http://schemas.openxmlformats.org/officeDocument/2006/relationships/hyperlink" Target="http://en.wikipedia.org/wiki/Tsarskoye_Selo" TargetMode="External"/><Relationship Id="rId3" Type="http://schemas.openxmlformats.org/officeDocument/2006/relationships/hyperlink" Target="http://en.wikipedia.org/wiki/Tsarskoye_Selo" TargetMode="External"/><Relationship Id="rId4" Type="http://schemas.openxmlformats.org/officeDocument/2006/relationships/hyperlink" Target="http://en.wikipedia.org/wiki/Tsarskoye_Selo" TargetMode="External"/><Relationship Id="rId5" Type="http://schemas.openxmlformats.org/officeDocument/2006/relationships/hyperlink" Target="http://en.wikipedia.org/wiki/Image:CatherinePalaceNorthSide.jpg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therine_Palace" TargetMode="External"/><Relationship Id="rId2" Type="http://schemas.openxmlformats.org/officeDocument/2006/relationships/hyperlink" Target="http://en.wikipedia.org/wiki/Tsarskoye_Selo" TargetMode="External"/><Relationship Id="rId3" Type="http://schemas.openxmlformats.org/officeDocument/2006/relationships/hyperlink" Target="http://en.wikipedia.org/wiki/Tsarskoye_Selo" TargetMode="External"/><Relationship Id="rId4" Type="http://schemas.openxmlformats.org/officeDocument/2006/relationships/hyperlink" Target="http://en.wikipedia.org/wiki/Tsarskoye_Selo" TargetMode="External"/><Relationship Id="rId5" Type="http://schemas.openxmlformats.org/officeDocument/2006/relationships/hyperlink" Target="http://upload.wikimedia.org/wikipedia/commons/e/ef/Catherine_Palace_ballroom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toine_Watteau" TargetMode="External"/><Relationship Id="rId2" Type="http://schemas.openxmlformats.org/officeDocument/2006/relationships/hyperlink" Target="http://en.wikipedia.org/wiki/Fran&#231;ois_Boucher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toine_Watteau" TargetMode="External"/><Relationship Id="rId2" Type="http://schemas.openxmlformats.org/officeDocument/2006/relationships/hyperlink" Target="http://en.wikipedia.org/wiki/Fran&#231;ois_Boucher" TargetMode="External"/><Relationship Id="rId3" Type="http://schemas.openxmlformats.org/officeDocument/2006/relationships/hyperlink" Target="http://en.wikipedia.org/wiki/Image:Ottobeuren-basilika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ran&#231;ois_Boucher_002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e/ef/Jean-Baptiste_Sim&#233;on_Chardin_029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November_2" TargetMode="External"/><Relationship Id="rId2" Type="http://schemas.openxmlformats.org/officeDocument/2006/relationships/hyperlink" Target="http://en.wikipedia.org/wiki/1699" TargetMode="External"/><Relationship Id="rId3" Type="http://schemas.openxmlformats.org/officeDocument/2006/relationships/hyperlink" Target="http://en.wikipedia.org/wiki/December_6" TargetMode="External"/><Relationship Id="rId4" Type="http://schemas.openxmlformats.org/officeDocument/2006/relationships/hyperlink" Target="http://en.wikipedia.org/wiki/1779" TargetMode="External"/><Relationship Id="rId5" Type="http://schemas.openxmlformats.org/officeDocument/2006/relationships/hyperlink" Target="http://en.wikipedia.org/wiki/France" TargetMode="External"/><Relationship Id="rId6" Type="http://schemas.openxmlformats.org/officeDocument/2006/relationships/hyperlink" Target="http://en.wikipedia.org/wiki/List_of_painters" TargetMode="External"/><Relationship Id="rId7" Type="http://schemas.openxmlformats.org/officeDocument/2006/relationships/hyperlink" Target="http://en.wikipedia.org/wiki/Still_life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co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tyle of 18th centu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nch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rio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Rococo rooms were designed as total works of art with elegant and ornate furniture, small sculptures, ornamental mirrors,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apes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lementing architecture, reliefs, and wall paintings. It was largely supplanted by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eoclas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y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side of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atherine Pa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sarskoy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e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rriage courtyard: all the stucco details sparkled with gold until 1773, when Catherine II had gilding replaced with olive drab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-Baptiste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R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172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Image:Jean-Baptiste Siméon Chardin 007.jpg"/>
          <p:cNvPicPr/>
          <p:nvPr/>
        </p:nvPicPr>
        <p:blipFill>
          <a:blip r:embed="rId1"/>
          <a:stretch/>
        </p:blipFill>
        <p:spPr>
          <a:xfrm>
            <a:off x="457200" y="15238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lroom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therine Pa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arskoye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coco Basilica at Ottobeuren (Bavaria): architectural spaces flow together and swarm with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d Rococo is seen as a combination of the Fren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cail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shell, and the Itali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roc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aro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yle. Due to Rococo love of shell-like curves and focus on decorative arts, some critics used the term to derogatively imply that the style was frivolous or merely modish; interestingly, when the term was first used in English in about 1836, it was 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lloquial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ing "old-fashioned". However, since the mid 19th century, the term has been accepted b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rt histori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ile there is still some debate about the historical significance of the style to art in general, Rococo is now widely recognized as a major period in the development of European 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side of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therine Pa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arskoy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arriage courtyard: all the stucco details sparkled with gold until 1773, when Catherine II had gilding replaced with olive drab pa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676520"/>
            <a:ext cx="3733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lroom of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therine Pa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arskoy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Image:Catherine Palace ballroo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16002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730s represented the height of Rococo development in France. The style had spread beyond architecture and furniture to painting and sculpture, exemplified by the works of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toine Wattea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nçois Bouch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Rococo still maintained the Baroque taste for complex forms and intricate patterns, but by this point, it had begun to integrate a variety of diverse characteristics, including a taste for Oriental designs and asymmetric compos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730s represented the height of Rococo development in France. The style had spread beyond architecture and furniture to painting and sculpture, exemplified by the works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toine Wattea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ançois Bouch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Rococo still maintained the Baroque taste for complex forms and intricate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600200"/>
            <a:ext cx="4038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Image:Jean-Baptiste Siméon Chardin 02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16002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-Bapt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an-Baptiste-Siméon Chard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ember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69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ecember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77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as an 18th-centur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ren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ain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He is considered a master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till li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-Baptis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Image:Jean-Baptiste Siméon Chardin 029.jpg"/>
          <p:cNvPicPr/>
          <p:nvPr/>
        </p:nvPicPr>
        <p:blipFill>
          <a:blip r:embed="rId1"/>
          <a:stretch/>
        </p:blipFill>
        <p:spPr>
          <a:xfrm>
            <a:off x="4807080" y="1600200"/>
            <a:ext cx="371952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mage:Jean-Baptiste-Siméon Chardin.jpg"/>
          <p:cNvPicPr/>
          <p:nvPr/>
        </p:nvPicPr>
        <p:blipFill>
          <a:blip r:embed="rId2"/>
          <a:stretch/>
        </p:blipFill>
        <p:spPr>
          <a:xfrm>
            <a:off x="533520" y="1676520"/>
            <a:ext cx="3429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23:53Z</dcterms:created>
  <dc:creator>cwilsey</dc:creator>
  <dc:description/>
  <dc:language>en-US</dc:language>
  <cp:lastModifiedBy>cwilsey</cp:lastModifiedBy>
  <dcterms:modified xsi:type="dcterms:W3CDTF">2008-12-08T16:36:16Z</dcterms:modified>
  <cp:revision>2</cp:revision>
  <dc:subject/>
  <dc:title>Rococo Art</dc:title>
</cp:coreProperties>
</file>