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8A495-CC01-4BA3-A0B3-7856EFD6CF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15715-57BA-4CA7-BC5E-B2E1BF6AB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BCA2AF-A9A4-4D1B-A148-A83E2BF584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1564E-F7AA-4D12-BA33-DE8849D034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F641A-9AC0-43A9-B4C2-9C44F3B03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1D9E7-4B2B-497D-95F9-C78AF29A4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24C12-CD9A-4F38-B467-A89B0F123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339B1-E184-4765-BB6A-A9B3A4D9C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875C7-BB16-441E-BE9B-E0824D4F8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37BC2-9B69-4E58-912E-7C5757B40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47E2D-EBAF-4ED2-95CC-CF46FF273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857AE-0933-440C-9076-AB8536B8BF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4D6EF-C74C-45AE-8946-B3D24795B1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bc.edu/bc_org/avp/cas/his/CoreArt/art/resources/frag_swing.jpg"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huntfor.com/arthistory/c17th-mid19th/baroque.htm"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huntfor.com/absoluteig/custom/index.htm"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ococo</a:t>
            </a:r>
            <a:br>
              <a:rPr sz="4000"/>
            </a:br>
            <a:r>
              <a:rPr b="0" lang="en-US" sz="4000" spc="-1" strike="noStrike">
                <a:solidFill>
                  <a:srgbClr val="000000"/>
                </a:solidFill>
                <a:latin typeface="Arial"/>
              </a:rPr>
              <a:t>(1700 - 1760)</a:t>
            </a: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kind of art does this inclu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Italian Serenade by: Antoine Watteau </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1"/>
          <a:stretch/>
        </p:blipFill>
        <p:spPr>
          <a:xfrm>
            <a:off x="0" y="1447920"/>
            <a:ext cx="4191120" cy="541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erenader by: Antoine Watteau </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tretch/>
        </p:blipFill>
        <p:spPr>
          <a:xfrm>
            <a:off x="304920" y="1371600"/>
            <a:ext cx="4190760" cy="548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Island of Cythera by: Antoine Watteau </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457200" y="1600200"/>
            <a:ext cx="5791320" cy="460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agonard, Jean-Honoré</a:t>
            </a:r>
            <a:r>
              <a:rPr b="0" lang="en-US" sz="4000" spc="-1" strike="noStrike">
                <a:solidFill>
                  <a:srgbClr val="000000"/>
                </a:solidFill>
                <a:latin typeface="Arial"/>
              </a:rPr>
              <a:t> (1732-1806). </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nch painter whose scenes of frivolity and gallantry are among the most complete embodiments of the Rococo spiri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gonard, Jean-Honoré</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stopped exhibiting at the Salon in 1767 and almost all his work was done for private patrons. Among them was Mme du Barry, Louis XV's most beautiful mistress, for whom he painted the works that are often regarded as his masterpie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The Reader</a:t>
            </a:r>
            <a:r>
              <a:rPr b="0" lang="en-US" sz="4000" spc="-1" strike="noStrike">
                <a:solidFill>
                  <a:srgbClr val="000000"/>
                </a:solidFill>
                <a:latin typeface="Arial"/>
              </a:rPr>
              <a:t> by: </a:t>
            </a:r>
            <a:r>
              <a:rPr b="1" lang="en-US" sz="4000" spc="-1" strike="noStrike">
                <a:solidFill>
                  <a:srgbClr val="000000"/>
                </a:solidFill>
                <a:latin typeface="Arial"/>
              </a:rPr>
              <a:t>Fragonard, Jean-Honoré</a:t>
            </a:r>
            <a:endParaRPr b="0" lang="en-US" sz="4000" spc="-1" strike="noStrike">
              <a:solidFill>
                <a:srgbClr val="000000"/>
              </a:solidFill>
              <a:latin typeface="Arial"/>
            </a:endParaRPr>
          </a:p>
        </p:txBody>
      </p:sp>
      <p:sp>
        <p:nvSpPr>
          <p:cNvPr id="76" name="PlaceHolder 2"/>
          <p:cNvSpPr>
            <a:spLocks noGrp="1"/>
          </p:cNvSpPr>
          <p:nvPr>
            <p:ph/>
          </p:nvPr>
        </p:nvSpPr>
        <p:spPr>
          <a:xfrm>
            <a:off x="30492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304920" y="1371600"/>
            <a:ext cx="4029120" cy="5057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wing by: </a:t>
            </a:r>
            <a:r>
              <a:rPr b="1" lang="en-US" sz="4000" spc="-1" strike="noStrike">
                <a:solidFill>
                  <a:srgbClr val="000000"/>
                </a:solidFill>
                <a:latin typeface="Arial"/>
              </a:rPr>
              <a:t>Fragonard, Jean-Honoré</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a:hlinkClick r:id="rId1"/>
          </p:cNvPr>
          <p:cNvPicPr/>
          <p:nvPr/>
        </p:nvPicPr>
        <p:blipFill>
          <a:blip r:embed="rId2"/>
          <a:stretch/>
        </p:blipFill>
        <p:spPr>
          <a:xfrm>
            <a:off x="609480" y="1676520"/>
            <a:ext cx="4038840" cy="4343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rogress of love by: </a:t>
            </a:r>
            <a:r>
              <a:rPr b="1" lang="en-US" sz="4000" spc="-1" strike="noStrike">
                <a:solidFill>
                  <a:srgbClr val="000000"/>
                </a:solidFill>
                <a:latin typeface="Arial"/>
              </a:rPr>
              <a:t>Fragonard, Jean-Honoré</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533520" y="1600200"/>
            <a:ext cx="327636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r Turn to Create a Rococo Work!</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use large white pap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draw LIGHTLY onto the paper-for easy era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use either chalk pastels or oil pastels to color the pi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vote on which one you want to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ococo</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term "Rococo" describes a movement in the arts in the early 18th century, in France. Rococo has been born from the </a:t>
            </a:r>
            <a:r>
              <a:rPr b="0" lang="en-US" sz="3200" spc="-1" strike="noStrike" u="sng">
                <a:solidFill>
                  <a:srgbClr val="009999"/>
                </a:solidFill>
                <a:uFillTx/>
                <a:latin typeface="Arial"/>
                <a:hlinkClick r:id="rId1"/>
              </a:rPr>
              <a:t>Baroque</a:t>
            </a:r>
            <a:r>
              <a:rPr b="0" lang="en-US" sz="3200" spc="-1" strike="noStrike" u="sng">
                <a:solidFill>
                  <a:srgbClr val="000000"/>
                </a:solidFill>
                <a:uFillTx/>
                <a:latin typeface="Arial"/>
              </a:rPr>
              <a:t> era, during the age of Enlightenment. That was a time when new ideas about human existence were introduced and Rococo art is the visual representation of the optimism people felt in response to that. </a:t>
            </a:r>
            <a:br>
              <a:rPr sz="3200"/>
            </a:br>
            <a:r>
              <a:rPr b="0" lang="en-US" sz="3200" spc="-1" strike="noStrike" u="sng">
                <a:solidFill>
                  <a:srgbClr val="000000"/>
                </a:solidFill>
                <a:uFillTx/>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ococo</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ord "rococo" is derived from "rocaille", meaning "rock work" or "shell work," a favorite motif of the time. It stresses purely ornamental, light, casual, irregular design.</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ococo</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vement toward a lighter, more charming manner began in French architectural decoration at the end of Louis XIV's reign (d.1715) and quickly spread across Europe. During the regency of Duke of Orleans, regent for the minor heir Louis XV, the formalities of the court gave way to a more casual and intimate atmosphere. Rococo art portrayed a world of artificiality, make-believe, and game-play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ococo</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ococo style is characterized by pastel colors, gracefully delicate curving forms, fanciful figures, and a lighthearted mood (visually and physically). The essence of Rococo art is light. Extreme highlights are placed on the subject matter and the overall work is light in color, effect, and emotion. Artists paid special attention to fine detail. Form is characterized by delicacy of color, dynamic compositions, and atmospheric effects. </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oine Watteau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oine Watteau is considered to be one of the first Rococo painters. He often created asymmetrical compositions. This type of aesthetic balance became not only an important part of Rococo art, but of design in general.</a:t>
            </a:r>
            <a:br>
              <a:rPr sz="3200"/>
            </a:br>
            <a:r>
              <a:rPr b="0" lang="en-US" sz="3200" spc="-1" strike="noStrike">
                <a:solidFill>
                  <a:srgbClr val="000000"/>
                </a:solidFill>
                <a:latin typeface="Arial"/>
              </a:rPr>
              <a:t>Remember when we studied the difference between symmetrical (same) and Asymmetrical desig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oine Watteau: </a:t>
            </a:r>
            <a:r>
              <a:rPr b="1" lang="en-US" sz="4400" spc="-1" strike="noStrike">
                <a:solidFill>
                  <a:srgbClr val="000000"/>
                </a:solidFill>
                <a:latin typeface="Arial"/>
              </a:rPr>
              <a:t>1684-1721</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Antoine Watteau">
            <a:hlinkClick r:id="rId1"/>
          </p:cNvPr>
          <p:cNvPicPr/>
          <p:nvPr/>
        </p:nvPicPr>
        <p:blipFill>
          <a:blip r:embed="rId2"/>
          <a:stretch/>
        </p:blipFill>
        <p:spPr>
          <a:xfrm>
            <a:off x="533520" y="1676520"/>
            <a:ext cx="3276360" cy="426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nch Players by: Antoine Watteau </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 descr=""/>
          <p:cNvPicPr/>
          <p:nvPr/>
        </p:nvPicPr>
        <p:blipFill>
          <a:blip r:embed="rId1"/>
          <a:stretch/>
        </p:blipFill>
        <p:spPr>
          <a:xfrm>
            <a:off x="533520" y="1523880"/>
            <a:ext cx="6476760" cy="480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Italian Theater by: Antoine Watteau</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
          <p:cNvPicPr/>
          <p:nvPr/>
        </p:nvPicPr>
        <p:blipFill>
          <a:blip r:embed="rId1"/>
          <a:stretch/>
        </p:blipFill>
        <p:spPr>
          <a:xfrm>
            <a:off x="457200" y="1752480"/>
            <a:ext cx="5572080" cy="425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2T15:02:20Z</dcterms:created>
  <dc:creator>Littleton Prep</dc:creator>
  <dc:description/>
  <dc:language>en-US</dc:language>
  <cp:lastModifiedBy>Littleton Prep</cp:lastModifiedBy>
  <dcterms:modified xsi:type="dcterms:W3CDTF">2008-03-12T15:24:08Z</dcterms:modified>
  <cp:revision>3</cp:revision>
  <dc:subject/>
  <dc:title>Rococo (1700 - 1760) </dc:title>
</cp:coreProperties>
</file>