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64C-7833-434A-BFCF-B71FFDA4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58E-EA8E-4121-874A-BD16CD11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406-1489-4931-A877-30150885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912-C8A0-44D3-8306-493E48B7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39F-429C-414E-925B-80712C55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490-C923-4B58-A503-37AAD16A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6FE-AB20-4FC1-8AC0-54D32CB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1DF-BA97-4638-B1F5-0F7AF5C0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E86-5FB8-4B5C-A012-E19FBE6D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8A9-1B9D-44AF-9816-7C5E64F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E02-9A0A-4C0E-80D2-A2FFF8E2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F67-86BA-4FB7-9748-E014757B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E6C2-5AAD-41C6-B1CF-1994A9743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&amp;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ason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Seas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at is your favorite sea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Each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ree leaves turn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sea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6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t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the sea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e will use a yellow square for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e will use an orange square for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 will use a light blue square for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e will a green square for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n we will glue our pictures onto our big 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Now we have a picture of all of the seas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9:48:18Z</dcterms:created>
  <dc:creator>Littleton Prep</dc:creator>
  <dc:description/>
  <dc:language>en-US</dc:language>
  <cp:lastModifiedBy>Littleton Prep</cp:lastModifiedBy>
  <dcterms:modified xsi:type="dcterms:W3CDTF">2008-02-21T19:50:41Z</dcterms:modified>
  <cp:revision>2</cp:revision>
  <dc:subject/>
  <dc:title>Seasons &amp; Weather</dc:title>
</cp:coreProperties>
</file>