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5DA1-BF58-4930-9F2D-5B79A9AD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C49-C7E2-4C31-9654-036B6F9E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365-2D38-444A-BE35-24A698D8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4D22-58CA-4198-8485-61848366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BE3-54CD-41AB-B607-A9FB3A61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A8D-C89E-46D5-A81E-1CC91896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7210-0D29-4FE8-A2D0-69B361C4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DB46-AF96-48B9-A7DA-9D52DC46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3BB-DE66-4548-B8BA-7C58A06C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9116-A7B3-4356-97F0-937EB280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BC3F-6C67-4531-BEBD-E25516D9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168-9991-45DF-9847-2873C121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7B71-7A3D-4052-B264-71745CA4E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sc.edu/schools/annenberg/asc/projects/comm544/library/images/636b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Horse Fai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sa Bonheur 18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3505320"/>
            <a:ext cx="63248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4733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7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teachartathome.com/horse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473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sa Bonheur 1822-1899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icture shows the horse market held in Paris on the tree-lined boulevard near the asylum, visible in the left background. For a year and a half, Bonheur went there twice a week to make sketches, dressed as a man to avoid attention. This work was shown in the Salon of 1853 and in 1854 in Bonheur's native Bordea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Horse Fai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sa Bonheur 1853-1855 oil on canv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horse.gif - 20767 Bytes"/>
          <p:cNvPicPr/>
          <p:nvPr/>
        </p:nvPicPr>
        <p:blipFill>
          <a:blip r:embed="rId1"/>
          <a:stretch/>
        </p:blipFill>
        <p:spPr>
          <a:xfrm>
            <a:off x="14479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5638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4724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47242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724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4724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5:32:20Z</dcterms:created>
  <dc:creator>Littleton Prep</dc:creator>
  <dc:description/>
  <dc:language>en-US</dc:language>
  <cp:lastModifiedBy>Littleton Prep</cp:lastModifiedBy>
  <dcterms:modified xsi:type="dcterms:W3CDTF">2008-09-04T19:18:23Z</dcterms:modified>
  <cp:revision>4</cp:revision>
  <dc:subject/>
  <dc:title>The Horse Fair Rosa Bonheur 1853</dc:title>
</cp:coreProperties>
</file>