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6DC0C-1DEC-46E1-A4FF-4DBC46664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E3A8-629F-477F-81E1-719A2BCC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78688-EB62-4A77-8F90-6C8FD708B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95727-A48A-492C-B94F-1143E3B1F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02D0-00E8-4C51-B131-2A4930BAD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54F3-E21A-4E6F-ACD2-BB56313D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91E5A-FFBB-442C-841A-1ADF4D605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EB62E-2402-4111-9A0D-82EC4ADB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7850B-DB3A-42B9-BE2F-2FD581E7F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939F3-3D91-4C58-9898-E309791CC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BF4F-06A7-43E4-BF41-99539183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7173-D590-46CE-9CB0-5F6728241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0AA5-F6EB-422B-9623-3C8FFE3A4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hetapestryhouse.com/products/detail/c16-border-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corn has been a favored myth for many centuries. It was popular in both China an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dieval times, Christian Europe had endowed the animal with symbolic qualities. One such quality was purity. The pagans of the time also attributed many powers and important positive qualities to the unicorn. In fact, the unicorn has origins in Pagan theology long before the Christians took hold of the symbolic ani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pic>
        <p:nvPicPr>
          <p:cNvPr id="46" name="" descr="Medieval image of a unicorn"/>
          <p:cNvPicPr/>
          <p:nvPr/>
        </p:nvPicPr>
        <p:blipFill>
          <a:blip r:embed="rId1"/>
          <a:stretch/>
        </p:blipFill>
        <p:spPr>
          <a:xfrm>
            <a:off x="2438280" y="1676520"/>
            <a:ext cx="39625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2057400" y="1066680"/>
            <a:ext cx="563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ion (detail) tapestry wall hanging"/>
          <p:cNvPicPr/>
          <p:nvPr/>
        </p:nvPicPr>
        <p:blipFill>
          <a:blip r:embed="rId1"/>
          <a:stretch/>
        </p:blipFill>
        <p:spPr>
          <a:xfrm>
            <a:off x="2428920" y="1033560"/>
            <a:ext cx="4286160" cy="47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Unicorn (detail) tapestry wall hanging"/>
          <p:cNvPicPr/>
          <p:nvPr/>
        </p:nvPicPr>
        <p:blipFill>
          <a:blip r:embed="rId1"/>
          <a:stretch/>
        </p:blipFill>
        <p:spPr>
          <a:xfrm>
            <a:off x="2428920" y="1047600"/>
            <a:ext cx="4286160" cy="476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LiCorne captive tapestry wall hanging"/>
          <p:cNvPicPr/>
          <p:nvPr/>
        </p:nvPicPr>
        <p:blipFill>
          <a:blip r:embed="rId1"/>
          <a:stretch/>
        </p:blipFill>
        <p:spPr>
          <a:xfrm>
            <a:off x="2428920" y="1062000"/>
            <a:ext cx="4286160" cy="47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20:16:03Z</dcterms:created>
  <dc:creator>Littleton Prep</dc:creator>
  <dc:description/>
  <dc:language>en-US</dc:language>
  <cp:lastModifiedBy>Littleton Prep</cp:lastModifiedBy>
  <dcterms:modified xsi:type="dcterms:W3CDTF">2007-12-21T20:23:12Z</dcterms:modified>
  <cp:revision>1</cp:revision>
  <dc:subject/>
  <dc:title>Unicorn Tapestries</dc:title>
</cp:coreProperties>
</file>