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32A-A0E1-467E-AC5D-43C0BD38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5B4-071F-4976-AC39-8E85D2CE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FC1-08F1-4FCE-AAEF-1659BB3E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3EB-7629-47EF-B598-A62079A5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273-5231-4499-8F1B-0D9FB74E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7CC-1035-4389-828A-AD59863E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FB3-35FD-4FD9-9FFA-393C1F5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52A-DED4-4C82-B8BB-7C2033FA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ADF-5D4F-4923-BD93-E0DD26A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98B-0093-4E9F-A09A-C9F3FD7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B0E-A617-464A-9B35-BA495545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4EB-EA9F-442D-AB4A-1FC61E19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454E-B826-4D2D-B3D2-4B701D03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cent 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cent Van Gogh: 1853-189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es was painted in 18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years ago w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this painting looks “soft” or “har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things look a bit fog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kind of painting is called “Impression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draw this picture-remember to draw lightl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at we are going to color it with water co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n’t use b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41:23Z</dcterms:created>
  <dc:creator>Littleton Prep</dc:creator>
  <dc:description/>
  <dc:language>en-US</dc:language>
  <cp:lastModifiedBy>Littleton Prep</cp:lastModifiedBy>
  <dcterms:modified xsi:type="dcterms:W3CDTF">2008-03-07T22:41:42Z</dcterms:modified>
  <cp:revision>1</cp:revision>
  <dc:subject/>
  <dc:title>Vincent Van Gogh</dc:title>
</cp:coreProperties>
</file>