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2A5C-5900-4455-9670-94D837D4A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2D26-BB13-4E00-8869-A2037CAE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1770-1A25-4996-942A-558733939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AC5E-2524-4ED6-BF0A-4959FDF46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CCFA-78FA-4D2E-96D7-7FA318A5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8E64-4E07-4A24-8807-3D442023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C2CC-AFC0-4CC3-800B-6ED2A123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80E5-0CA1-4645-85E5-4B0B4B90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FD04-DCAB-4252-9276-EEEEBA8E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E6BD-40BC-49D3-8DC5-BD00C295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35B9-4315-43CA-B9F1-5E9FD4CA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5061-E847-4350-8853-E65D3A85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9899-B27B-4BF7-A0EC-4D8435B52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http://en.wikipedia.org/wiki/Discus_(disambiguation)" TargetMode="External"/><Relationship Id="rId4" Type="http://schemas.openxmlformats.org/officeDocument/2006/relationships/hyperlink" Target="http://en.wikipedia.org/wiki/Discobolus" TargetMode="External"/><Relationship Id="rId5" Type="http://schemas.openxmlformats.org/officeDocument/2006/relationships/hyperlink" Target="http://en.wikipedia.org/wiki/Copenhagen" TargetMode="External"/><Relationship Id="rId6" Type="http://schemas.openxmlformats.org/officeDocument/2006/relationships/hyperlink" Target="http://en.wikipedia.org/wiki/Denmark" TargetMode="External"/><Relationship Id="rId7" Type="http://schemas.openxmlformats.org/officeDocument/2006/relationships/hyperlink" Target="http://en.wikipedia.org/wiki/Track_and_field" TargetMode="External"/><Relationship Id="rId8" Type="http://schemas.openxmlformats.org/officeDocument/2006/relationships/hyperlink" Target="http://en.wikipedia.org/wiki/Disk_(mathematics)" TargetMode="External"/><Relationship Id="rId9" Type="http://schemas.openxmlformats.org/officeDocument/2006/relationships/hyperlink" Target="http://en.wikipedia.org/wiki/Classical_antiquity" TargetMode="External"/><Relationship Id="rId10" Type="http://schemas.openxmlformats.org/officeDocument/2006/relationships/hyperlink" Target="http://en.wikipedia.org/wiki/5th_century_BC" TargetMode="External"/><Relationship Id="rId11" Type="http://schemas.openxmlformats.org/officeDocument/2006/relationships/hyperlink" Target="http://en.wikipedia.org/wiki/Myron" TargetMode="External"/><Relationship Id="rId12" Type="http://schemas.openxmlformats.org/officeDocument/2006/relationships/hyperlink" Target="http://en.wikipedia.org/wiki/Discobolus" TargetMode="External"/><Relationship Id="rId13" Type="http://schemas.openxmlformats.org/officeDocument/2006/relationships/hyperlink" Target="http://en.wikipedia.org/wiki/Modern_pentathlon" TargetMode="External"/><Relationship Id="rId14" Type="http://schemas.openxmlformats.org/officeDocument/2006/relationships/hyperlink" Target="http://en.wikipedia.org/wiki/Pentathlon" TargetMode="External"/><Relationship Id="rId15" Type="http://schemas.openxmlformats.org/officeDocument/2006/relationships/hyperlink" Target="http://en.wikipedia.org/wiki/708_BC" TargetMode="External"/><Relationship Id="rId16" Type="http://schemas.openxmlformats.org/officeDocument/2006/relationships/slide" Target="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conic" TargetMode="External"/><Relationship Id="rId2" Type="http://schemas.openxmlformats.org/officeDocument/2006/relationships/hyperlink" Target="http://en.wikipedia.org/wiki/Olympic_Games" TargetMode="External"/><Relationship Id="rId3" Type="http://schemas.openxmlformats.org/officeDocument/2006/relationships/hyperlink" Target="http://en.wikipedia.org/wiki/Summer_Olympic_Games" TargetMode="External"/><Relationship Id="rId4" Type="http://schemas.openxmlformats.org/officeDocument/2006/relationships/hyperlink" Target="http://en.wikipedia.org/wiki/1896_Summer_Olympics" TargetMode="External"/><Relationship Id="rId5" Type="http://schemas.openxmlformats.org/officeDocument/2006/relationships/slide" Target=""/><Relationship Id="rId6" Type="http://schemas.openxmlformats.org/officeDocument/2006/relationships/hyperlink" Target="http://en.wikipedia.org/wiki/Image:1920_olympics_poster.jpg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iscus Thr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 th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Wikipedia, the free encyclop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mp to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navigatio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iscus" redirects here. For other uses, se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Discus (disambiguation)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e of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discus thrower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in Botanic Garden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openhage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Den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 thr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 event in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track and field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competition, in which an athlete throws a heavy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disc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 — itself called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— in an attempt to mark a farther distance than his or her competitors. It is an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ancien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sport, as evidenced by th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5th century BC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Myro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statue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Discobol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Although not part of th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modern pentathlo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 it was one of the events of th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ancient pentathlo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 which can be dated at least back to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708 BC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[1]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t did not have avery long trad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iscus Thr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utine part of most modern track and field meets at all levels, it is a sport which is particularly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con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of th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lympic Game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 The men's competition has been a part of the moder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ummer Olympic Game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since th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irst Olympiad in 1896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 Images of discus throwers figured prominently in advertising for early modern Games, such as fundraising stamps for the 1896 games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[2]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the main poster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for the 1920 and 1948 Summer Olympics.[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men's competition was added to the Olympic program in the 1928 games, although they had been competing at some national and regional levels previous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Image:Discus Thrower Copenhagen.jpg"/>
          <p:cNvPicPr/>
          <p:nvPr/>
        </p:nvPicPr>
        <p:blipFill>
          <a:blip r:embed="rId1"/>
          <a:stretch/>
        </p:blipFill>
        <p:spPr>
          <a:xfrm>
            <a:off x="1371600" y="53352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How To Draw Peo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human figure practice by Adam Polselli."/>
          <p:cNvPicPr/>
          <p:nvPr/>
        </p:nvPicPr>
        <p:blipFill>
          <a:blip r:embed="rId1"/>
          <a:stretch/>
        </p:blipFill>
        <p:spPr>
          <a:xfrm>
            <a:off x="533520" y="1752480"/>
            <a:ext cx="62103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: Life Dra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life drawing by Dane Rich."/>
          <p:cNvPicPr/>
          <p:nvPr/>
        </p:nvPicPr>
        <p:blipFill>
          <a:blip r:embed="rId1"/>
          <a:stretch/>
        </p:blipFill>
        <p:spPr>
          <a:xfrm>
            <a:off x="457200" y="1523880"/>
            <a:ext cx="34574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n by Student in 6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44193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n by Student in 6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219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n by Student in 6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336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A10: Human Skeleton Model Stan, on pelvic mounted 4 foot roller stand"/>
          <p:cNvPicPr/>
          <p:nvPr/>
        </p:nvPicPr>
        <p:blipFill>
          <a:blip r:embed="rId1"/>
          <a:stretch/>
        </p:blipFill>
        <p:spPr>
          <a:xfrm>
            <a:off x="533520" y="228600"/>
            <a:ext cx="22096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15:35:51Z</dcterms:created>
  <dc:creator>Littleton Prep</dc:creator>
  <dc:description/>
  <dc:language>en-US</dc:language>
  <cp:lastModifiedBy>Littleton Prep</cp:lastModifiedBy>
  <dcterms:modified xsi:type="dcterms:W3CDTF">2008-09-02T15:33:55Z</dcterms:modified>
  <cp:revision>5</cp:revision>
  <dc:subject/>
  <dc:title>The Renaissance 1350-1600</dc:title>
</cp:coreProperties>
</file>