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1C1-EFB3-4A59-8E1A-7CB23600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8F7-7A98-4C4A-9647-23FEAC88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1BE-9E84-4C09-B971-A9A61FB9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CBD-BBE4-4DD7-870E-9D504B90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60B-DB3B-49B4-8520-7879BEF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927-57BC-44D6-8168-4F077361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17E-37F7-4D0E-A596-A7044E28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007-3115-45ED-B5DA-4BF4C5A9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B0F-52DC-4851-9992-B12E9303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645-A1A8-4481-B689-57D7CD3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3059-96FC-4AF6-955C-6F4F298B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184-3668-4D1E-8BCE-E954039C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A4B3-BAB6-417D-A359-E42C7FE8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gR3XlJvnMBURSJzbkF;_ylu=X3oDMTBpaWhqZmNtBHBvcwMzBHNlYwNzcgR2dGlkAw--/SIG=1n78pg78v/EXP=1232809617/**http%3A//images.search.yahoo.com/images/view%3Fback=http%253A%252F%252Fimages.search.yahoo.com%252Fsearch%252Fimages%253F_adv_prop%253Dimage%2526fr%253Dush_mailm%2526va%253Dpaint%252Bbrush%252Bart%2526sz%253Dall%2526vm%253Dr%26w=500%26h=375%26imgurl=static.flickr.com%252F2027%252F2035625514_9855b5d8a6.jpg%26rurl=http%253A%252F%252Fwww.flickr.com%252Fphotos%252F20889638%2540N05%252F2035625514%252F%26size=210.5kB%26name=Paint%2BBrush%2BAperture%26p=paint%2Bbrush%2Bart%26type=JPG%26oid=4d14e2cbaef054f4%26fusr=doubletrouble1242%26tit=Paint%2BBrush%2BAperture%26hurl=http%253A%252F%252Fwww.flickr.com%252Fphotos%252F20889638%2540N05%252F%26no=3%26tt=26,177%26sigr=11lk9d6lp%26sigi=11gnbn5cb%26sigb=138b13dfr%26sigh=11ajgafd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artgallery.com.au/ArtEducation/greatartists/Raphae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Talk About A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05740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The path of a moving point. Made visible because of a difference in color o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-An area that stands out in a picture due to outlining or different shades or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 The degree of light or dark. The degree of light or dark within a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- The surface of a material which can be experienced through touch/feel (actual texture). Texture also includes the “illusion” that there is texture (2-dimensional 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- visual response to the wavelength of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olors: red, yellow an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colors: orange, purple and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ther Terms Can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- Looks “real” like a pho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al Art- Does not look “real” does not represent anything or any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-Representational- The viewer can distinguish what the artist is creating but it does not look “re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Talk About This Picture-Please Remember TO Raise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To Use The Vocabulary We Just Cover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of Athens 1510-15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e School of Ath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7162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5:05:33Z</dcterms:created>
  <dc:creator>Littleton Prep</dc:creator>
  <dc:description/>
  <dc:language>en-US</dc:language>
  <cp:lastModifiedBy>Littleton Prep</cp:lastModifiedBy>
  <dcterms:modified xsi:type="dcterms:W3CDTF">2009-01-23T15:56:55Z</dcterms:modified>
  <cp:revision>4</cp:revision>
  <dc:subject/>
  <dc:title>How Can We Talk About Art??</dc:title>
</cp:coreProperties>
</file>