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374-8999-4272-A4AF-74BF9DCD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CC8-A32F-4DE8-AE4E-81A37751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F82-F5DE-44D2-995E-0BF32B87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D49-9A55-4BAC-A01D-296D80C3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E1A81-0370-4565-96BE-8D7043D8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5DE2E-B06A-4E70-9E5C-B1076898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8C4AB-33D3-4ACA-A553-FB0DDE3B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8C97E-60FF-4447-91B7-5B10F18D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C43EF-7E4E-4F79-B11E-BE1C031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1DF39-BB27-4FD3-870C-E26B0A1D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AB5F9-9A7F-450F-AD05-4E2221EC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21C-3605-4174-AD1A-7585C10C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085A4-1271-4F6B-9737-49AE97E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7F44E-C758-4C68-B023-0A61F00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D0177-02F7-4D73-B2FC-028129BB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1A926-F61A-49B2-95D2-11F253D7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E90A3-28E0-4A1F-B3B1-09D62780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EA6-FE04-41D8-B8A1-4FE2EEC7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158-43DD-499B-BB3F-E3F0CBB9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849D-9DB0-404A-857B-796BA867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266-66A5-4BDA-96BA-0E55CF69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01B-8605-43F5-A52F-C5A5004F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9F3-8834-4464-9351-718CD2E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53B-6E88-4435-8410-9F7C2B1F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AE10-B901-4826-AE72-5707026CA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1D33-17F2-4471-9942-5DC0E8782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lett Burges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le C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ff Your Fis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newspap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unch up the news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ff it into your fish through the mout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 Your Fish Fat Ye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ould all have well fed fish no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sh should be 3-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ose The Mout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come around and staple the mouth sh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a teacher will come around and hole punch the mouth (this punch should be as far into the fish as possible to prevent ripp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ing Lin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help you string clear fishing line through the fishes hole-punched mou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xt we will fasten a large paper clip to the end of the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your fish has been caugh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hang him/her from the ceil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d You Have Fun Fish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rple C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EVER saw a Purple Cow; 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never hope to See One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I can Tell you, Anyhow, 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'd rather See than Be One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e Cows Really Purpl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nimals can be purp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are going to make purple fish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fish were purple would it most likely be a freshwater fish or a salt water fis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ch of you should have one large sheet of purple pap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fold your paper in half-horizontally/hotdog 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a pencil to draw this out line on your pa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cut out your purple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 have scal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a pencil to draw in scales on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should put the scales ALL over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a pencil to draw on e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r Your Fis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use colored pencil to color in your 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your tim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 Have Ey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glue the google eyes onto your fish where their eyes would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le your fish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acher will come around and staple your fish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acher will leave the mouth open (at least five inch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52:20Z</dcterms:created>
  <dc:creator>Matthew Cleveland</dc:creator>
  <dc:description/>
  <dc:language>en-US</dc:language>
  <cp:lastModifiedBy>Matthew Cleveland</cp:lastModifiedBy>
  <dcterms:modified xsi:type="dcterms:W3CDTF">2007-11-25T20:30:25Z</dcterms:modified>
  <cp:revision>2</cp:revision>
  <dc:subject/>
  <dc:title>Gelett Burgess </dc:title>
</cp:coreProperties>
</file>