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0962-3117-4F5C-A513-9EEE5E585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2E28-76ED-44D0-B45E-F671E1217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3AB8-EC4E-4918-83B9-3B3799863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3B32-A050-459E-A980-442D9A461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134D3-C05A-4451-B375-7D0E8704F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1A899-7C8E-44F3-AA5B-9B0F1E020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407D3-1226-4F9F-A00B-EA3877A26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7CFDE-5424-43FD-9FB3-7F502B1F0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88B0A-1825-4C37-A195-3BC39E9E1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2EA38-E011-4D19-819A-41AB03720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F89A3-C525-49F1-98F2-827E4AFB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6236-3E07-4131-8B0F-4B05220A3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DD1F5-AEB0-4B5E-8C86-29D31B62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E8450-4B1C-4EB0-818B-A3A4ED37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480BE-FE1C-4A1C-B409-FED6DD81E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39336-702F-4634-94E7-B8899F7B2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F09D9-36AD-47C3-96C1-55D7FC164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DC8D-A9F9-445D-A15C-D8FC6D91F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627A-2B0F-40E3-9E81-EADE51393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194B-F973-4213-986B-9CB62178D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1F91-3F40-4CCD-B6C3-B09C59036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C7DB-B090-44C5-B2BA-C04BB9BB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2BFB-B925-41CB-B1A9-2A029185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B309-A2A3-4A7A-91E2-6ED5071B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1A27E-33D8-4C34-8828-E4C91EA6E5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F38F6-EB8A-492F-9346-CE77016F4B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Are Landscape Drawings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deas: they may include hills, trees, mountai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omas Cole “The Oxbow”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33520" y="1600200"/>
            <a:ext cx="80769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l Greco “View of Toledo”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371600" y="1066680"/>
            <a:ext cx="6248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Henri Rousseau “Virgin Forest”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0" name="" descr="&quot;Virgin Forest&quot; Print"/>
          <p:cNvPicPr/>
          <p:nvPr/>
        </p:nvPicPr>
        <p:blipFill>
          <a:blip r:embed="rId2"/>
          <a:stretch/>
        </p:blipFill>
        <p:spPr>
          <a:xfrm>
            <a:off x="1676520" y="1371600"/>
            <a:ext cx="54864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Vincent van Gogh “The Starry Night”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219320" y="1523880"/>
            <a:ext cx="659124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Now it is time for you to make your own landscape!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y to make a “Colorado” landscap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will be using yellow construction paper, pencil, colored pencils, cotton for “snow” and gl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ve fun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5T20:49:44Z</dcterms:created>
  <dc:creator>Matthew Cleveland</dc:creator>
  <dc:description/>
  <dc:language>en-US</dc:language>
  <cp:lastModifiedBy>Matthew Cleveland</cp:lastModifiedBy>
  <dcterms:modified xsi:type="dcterms:W3CDTF">2007-11-25T21:11:09Z</dcterms:modified>
  <cp:revision>3</cp:revision>
  <dc:subject/>
  <dc:title>What Are Landscape Drawings?</dc:title>
</cp:coreProperties>
</file>