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696-10B3-45C3-AF17-F12BCD06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9369-E39D-43F0-A887-B3A4FDF4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731-99AC-4C70-B7E6-B0FA9947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477-74AD-4AD7-BA91-F6519FEF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1D8-1BCB-439F-82F0-FE40FFD3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E37-CCB0-4B48-9059-D8FCB259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86B0-444B-4D97-9C16-5AC54B81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A44-9E4B-44A0-9920-B5A9DE1A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0A9-04EB-4F37-B1A5-3C4E380D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DA1-CDAF-4E11-8306-7E1D8364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5C2B-EFD8-40C2-8965-2631EB7B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B318-DC75-4099-8404-DDFF787D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C234-F49B-441F-B535-E6F791A02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Alexander Calder. Lobster Trap and Fish Tail. Roxbury, Connecticut, 1939"/>
          <p:cNvPicPr/>
          <p:nvPr/>
        </p:nvPicPr>
        <p:blipFill>
          <a:blip r:embed="rId1"/>
          <a:stretch/>
        </p:blipFill>
        <p:spPr>
          <a:xfrm>
            <a:off x="2666880" y="2286000"/>
            <a:ext cx="412452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exander Calder: Lobster Trap &amp; Fish 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lobsters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11240" y="2603520"/>
            <a:ext cx="53215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419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953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76200" y="1219320"/>
            <a:ext cx="6591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obile has 2 sid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going to make lobster mobil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need to have 6 lobs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ets of 2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 paper, paint or crayons, scissors, pencils, glue, yarn and goggle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19:28:31Z</dcterms:created>
  <dc:creator>Littleton Prep</dc:creator>
  <dc:description/>
  <dc:language>en-US</dc:language>
  <cp:lastModifiedBy>Littleton Prep</cp:lastModifiedBy>
  <dcterms:modified xsi:type="dcterms:W3CDTF">2007-12-21T19:29:03Z</dcterms:modified>
  <cp:revision>1</cp:revision>
  <dc:subject/>
  <dc:title>Slide 1</dc:title>
</cp:coreProperties>
</file>