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E6BD-D13C-420E-8620-4CFF808C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C1A-30D0-4BF0-9591-4498198C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C38-76F5-475C-A767-D7099676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054-EBDB-4D67-9175-24AE2227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BDE-8C83-4C4B-98E7-70B95D86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954-8A29-4ACD-993F-7934DB68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C4F-7EAF-46B3-82FC-FF3558EA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F886-2C2A-4CDA-992F-7C074888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F6AB-99E7-4E1C-ADCE-D0B0D24E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FEE-B7D4-4293-9B62-13F301D9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344-646B-4EA7-8F02-DFACE042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F47C-D4C7-434D-9828-667727EE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FEED-5C71-45EB-AB21-0A0CFE97D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orthern_hemisphere" TargetMode="External"/><Relationship Id="rId2" Type="http://schemas.openxmlformats.org/officeDocument/2006/relationships/hyperlink" Target="http://en.wikipedia.org/wiki/March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ime Of The Year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ees will start to bud, the animals will come out of hibernation…..birds will s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guessed right! Spring is on the wa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rriam-Webster Diction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 that spring comprises "in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rthern hemisphe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usually the months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rc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April, May, or as reckoned astronomically extending from the vernal equinox (March 20) to the June solstice (June 21)."[1]. The Southern Hemisphere experience spring during the months of August, September, Octo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they mean by in the “northern” hemisp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n’t spring occur at the same time of the year across the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on It Will Be 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May in Australia is the month before winter begins, most of the continent still enjoys an average top temperature of about 20°C (68°F). In Tasmania, of course, the temperature could plunge below an average daytime high of 17°C (63°F)and northern Queensland could reach a top average of 27°C (81°F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are going to make a “spring” projec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you will be given a large sheet of white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ly, you will be given a sheet of blue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ue paper should be cut into the type of sky that you wa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e that blue paper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look at the pictures of the animals that I printed out for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your “spring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5:54:19Z</dcterms:created>
  <dc:creator>Littleton Prep</dc:creator>
  <dc:description/>
  <dc:language>en-US</dc:language>
  <cp:lastModifiedBy>Littleton Prep</cp:lastModifiedBy>
  <dcterms:modified xsi:type="dcterms:W3CDTF">2008-03-10T15:54:38Z</dcterms:modified>
  <cp:revision>1</cp:revision>
  <dc:subject/>
  <dc:title>What Time Of The Year Is It?</dc:title>
</cp:coreProperties>
</file>