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F051-9850-4882-9018-75A6403C6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2C5D-4336-403B-AFE5-F9A4FD6A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A344-3615-453C-B82A-F2DF1A83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6535-FFBA-4432-BF90-EFE19197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C180-403C-42AA-841D-F8CFF050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64C6-BBFE-4FBA-9EE9-0DB2EC6B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94F1-3D8E-4511-85B0-CF7B62B9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1493-BE5C-420B-BEC0-FCA19725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E5A7-848D-402E-81F0-2852A86D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9D2C-4B19-4432-9D5D-33B46141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BF8B-2E11-4E43-B7C2-1C0BED7A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9081-752A-40FB-BEEA-E67DF38C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961D-E288-44D2-AF7B-B2538B2C6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rtworksaustin.com/eclectic.html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hatsthatbug.com/wp-content/uploads/2008/10/cattail_cat_gavin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bugguide.net/node/view/195430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GS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Bugs Are Ther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 Name Some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Butterflies #BB1218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0"/>
            <a:ext cx="563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2388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Bug Is This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505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00080" y="809640"/>
            <a:ext cx="71438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Cattail Caterpill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371600"/>
            <a:ext cx="7162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0773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90920" y="0"/>
            <a:ext cx="365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dynoMoth - Citheronia regali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676520"/>
            <a:ext cx="3657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Image Preview"/>
          <p:cNvPicPr/>
          <p:nvPr/>
        </p:nvPicPr>
        <p:blipFill>
          <a:blip r:embed="rId1"/>
          <a:stretch/>
        </p:blipFill>
        <p:spPr>
          <a:xfrm>
            <a:off x="380880" y="1676520"/>
            <a:ext cx="58676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01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15:39:34Z</dcterms:created>
  <dc:creator>Littleton Prep</dc:creator>
  <dc:description/>
  <dc:language>en-US</dc:language>
  <cp:lastModifiedBy>Littleton Prep</cp:lastModifiedBy>
  <dcterms:modified xsi:type="dcterms:W3CDTF">2008-10-16T01:29:13Z</dcterms:modified>
  <cp:revision>2</cp:revision>
  <dc:subject/>
  <dc:title>BUGS!!!</dc:title>
</cp:coreProperties>
</file>