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540-51E0-4453-8407-E3415791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691-F1A8-4C5C-A5B1-B5EFB3F6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A0D-EB2A-4B3D-A9C9-F91D280C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785-4B6F-4877-BB4E-135B3F37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009-16B2-40C7-AC48-A71D666D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A79-414F-44DD-A279-6FE2DB60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88F-CE1B-4DDB-8E09-3EF86B0E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488-84E2-4D81-A0BB-3887495D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133-F944-4D83-B8C1-3B5D1405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F2C-CFC2-48A9-B149-14C647A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A68-4DC1-4939-95A3-F0D923E3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A4B-22D7-4452-B763-5EBEB9D6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7FCF-0A4F-4985-9594-5E6B3510A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rtworksaustin.com/eclectic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hatsthatbug.com/wp-content/uploads/2008/10/cattail_cat_gavin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ugguide.net/node/view/195430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ugs Are Ther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 Name Som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Butterflies #BB1218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2388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ug Is Thi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00080" y="809640"/>
            <a:ext cx="7143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Cattail Caterpill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371600"/>
            <a:ext cx="7162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077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dynoMoth - Citheronia regal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76520"/>
            <a:ext cx="3657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Image Preview"/>
          <p:cNvPicPr/>
          <p:nvPr/>
        </p:nvPicPr>
        <p:blipFill>
          <a:blip r:embed="rId1"/>
          <a:stretch/>
        </p:blipFill>
        <p:spPr>
          <a:xfrm>
            <a:off x="380880" y="1676520"/>
            <a:ext cx="58676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5:39:34Z</dcterms:created>
  <dc:creator>Littleton Prep</dc:creator>
  <dc:description/>
  <dc:language>en-US</dc:language>
  <cp:lastModifiedBy>Littleton Prep</cp:lastModifiedBy>
  <dcterms:modified xsi:type="dcterms:W3CDTF">2008-10-16T01:29:13Z</dcterms:modified>
  <cp:revision>2</cp:revision>
  <dc:subject/>
  <dc:title>BUGS!!!</dc:title>
</cp:coreProperties>
</file>