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32E-8B7D-4BD5-B43B-38D90A36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C44-18CC-40F0-9A48-C043CE87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0EB-BF9D-421E-A397-CC9FCF9D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2A2-3A0B-44A0-AA2E-5B532123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A8E-F473-4E1E-87D6-F3DA88A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932-B6FC-4E5B-AB75-CAD92473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793-C280-4710-AE85-22D425E7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78D-C5B9-42DD-8100-EE1724E6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7CF-2497-4571-B4B6-EF9EF1B7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72F-B5DB-4EC2-A2F1-1EAEB12D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B46-E5D6-4048-8D11-C7AFBEE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0DD-403C-4195-8ED5-28C6092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71A5-AC05-4A72-9964-E73DD8C0F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yzantine_Empire" TargetMode="External"/><Relationship Id="rId2" Type="http://schemas.openxmlformats.org/officeDocument/2006/relationships/hyperlink" Target="http://en.wikipedia.org/wiki/4th_century" TargetMode="External"/><Relationship Id="rId3" Type="http://schemas.openxmlformats.org/officeDocument/2006/relationships/hyperlink" Target="http://en.wikipedia.org/wiki/Fall_of_Constantinople" TargetMode="External"/><Relationship Id="rId4" Type="http://schemas.openxmlformats.org/officeDocument/2006/relationships/hyperlink" Target="http://en.wikipedia.org/wiki/1453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8/89/Areobindu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6/Meister_von_San_Vitale_in_Ravenna_00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4/47/Hagios_demetr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gios_Demetrios" TargetMode="External"/><Relationship Id="rId2" Type="http://schemas.openxmlformats.org/officeDocument/2006/relationships/hyperlink" Target="http://en.wikipedia.org/wiki/Thessaloniki" TargetMode="External"/><Relationship Id="rId3" Type="http://schemas.openxmlformats.org/officeDocument/2006/relationships/hyperlink" Target="http://en.wikipedia.org/wiki/Saint_Demetrius_of_Thessaloniki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commonly used to describe the artistic products of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yzantine Empi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from abou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4th centur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until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ll of Constantinopl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45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our own Layered mosaic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 are going to construct a picture by gluing on small pieces of construction pap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rst draw out what you would like to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ake out colored pieces of construction paper that you think you will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ext, glue on the pieces! Please overlap and glue on as much as you ca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ve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:Areobind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514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: Mosa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:Meister von San Vitale in Ravenna 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371600"/>
            <a:ext cx="79246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zantine art: Mosaic-expla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aic from San Vitale in Ravenna, showing the Emperor Justinian and Bishop Maximian of Ravenna surrounded by clerics and sold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: Mosa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mage:Hagios demetri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zantine art: Mosaic-expla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aic from the church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gios Demetrio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ssalonik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late 7th or early 8th century, show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. Demetrio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with don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Byzantine iconoclasm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Image:Handy tables.jpg"/>
          <p:cNvPicPr/>
          <p:nvPr/>
        </p:nvPicPr>
        <p:blipFill>
          <a:blip r:embed="rId1"/>
          <a:stretch/>
        </p:blipFill>
        <p:spPr>
          <a:xfrm>
            <a:off x="457200" y="1600200"/>
            <a:ext cx="495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Byzantine iconoclasm."[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os in his chariot, surrounded by symbols of the months and of the zodiac. From Vat. Gr. 1291, the "Handy Tables" of Ptolemy, produced during the reign of Constantine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is period, many Byzantine artists made religious works for chur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with the new Byzantine Iconoclasm period, only “real” religious works were allowed. For example, because paint is not “alive” one could not paint Jesus or any of the sa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rn Mosaic-notice the small pieces of different colors and how they create a whole pictu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6019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9:08:01Z</dcterms:created>
  <dc:creator>Littleton Prep</dc:creator>
  <dc:description/>
  <dc:language>en-US</dc:language>
  <cp:lastModifiedBy>Littleton Prep</cp:lastModifiedBy>
  <dcterms:modified xsi:type="dcterms:W3CDTF">2008-04-11T21:50:34Z</dcterms:modified>
  <cp:revision>10</cp:revision>
  <dc:subject/>
  <dc:title>Byzantine art </dc:title>
</cp:coreProperties>
</file>