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37B-C3E0-4AD2-B246-E1DFC9BB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280-A5FD-4485-AC30-43D6A3F6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ABB-F05D-4426-AE44-CF2BD002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B42-5857-4E34-9FD3-724CE93B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0F36-8FCE-4B78-B800-C7033C6A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79D-A2C3-4264-AE06-E3440638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285-72E7-4228-8531-08FF054B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66E9-C9FA-4D55-B738-8C4D1EBA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76A-528A-48BA-813A-1B79900E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119-FBE3-49A2-9EBD-77DE94AD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7BE-76AA-44C7-84A2-095CF4AC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53A-ED72-4913-91D6-12E2B2AE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B9A3-E486-44E1-B445-FC614D45F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yzantine_Empire" TargetMode="External"/><Relationship Id="rId2" Type="http://schemas.openxmlformats.org/officeDocument/2006/relationships/hyperlink" Target="http://en.wikipedia.org/wiki/4th_century" TargetMode="External"/><Relationship Id="rId3" Type="http://schemas.openxmlformats.org/officeDocument/2006/relationships/hyperlink" Target="http://en.wikipedia.org/wiki/Fall_of_Constantinople" TargetMode="External"/><Relationship Id="rId4" Type="http://schemas.openxmlformats.org/officeDocument/2006/relationships/hyperlink" Target="http://en.wikipedia.org/wiki/1453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8/89/Areobindu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6/Meister_von_San_Vitale_in_Ravenna_00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4/47/Hagios_demetriu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gios_Demetrios" TargetMode="External"/><Relationship Id="rId2" Type="http://schemas.openxmlformats.org/officeDocument/2006/relationships/hyperlink" Target="http://en.wikipedia.org/wiki/Thessaloniki" TargetMode="External"/><Relationship Id="rId3" Type="http://schemas.openxmlformats.org/officeDocument/2006/relationships/hyperlink" Target="http://en.wikipedia.org/wiki/Saint_Demetrius_of_Thessaloniki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zantine a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commonly used to describe the artistic products of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yzantine Empi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from abou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4th centur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until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all of Constantinopl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45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make our own Layered mosaics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 are going to construct a picture by gluing on small pieces of construction pap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rst draw out what you would like to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ext take out colored pieces of construction paper that you think you will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ext, glue on the pieces! Please overlap and glue on as much as you can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ve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zantin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Image:Areobind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514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zantine art: Mosa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Image:Meister von San Vitale in Ravenna 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371600"/>
            <a:ext cx="79246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zantine art: Mosaic-expla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aic from San Vitale in Ravenna, showing the Emperor Justinian and Bishop Maximian of Ravenna surrounded by clerics and soldi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zantine art: Mosa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Image:Hagios demetri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3716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zantine art: Mosaic-expla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aic from the church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agios Demetrio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ssalonik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late 7th or early 8th century, show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. Demetrio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with don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Byzantine iconoclasm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Image:Handy tables.jpg"/>
          <p:cNvPicPr/>
          <p:nvPr/>
        </p:nvPicPr>
        <p:blipFill>
          <a:blip r:embed="rId1"/>
          <a:stretch/>
        </p:blipFill>
        <p:spPr>
          <a:xfrm>
            <a:off x="457200" y="1600200"/>
            <a:ext cx="4952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"Byzantine iconoclasm."[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ios in his chariot, surrounded by symbols of the months and of the zodiac. From Vat. Gr. 1291, the "Handy Tables" of Ptolemy, produced during the reign of Constantine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is period, many Byzantine artists made religious works for chur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with the new Byzantine Iconoclasm period, only “real” religious works were allowed. For example, because paint is not “alive” one could not paint Jesus or any of the sa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rn Mosaic-notice the small pieces of different colors and how they create a whole pictu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6019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9:08:01Z</dcterms:created>
  <dc:creator>Littleton Prep</dc:creator>
  <dc:description/>
  <dc:language>en-US</dc:language>
  <cp:lastModifiedBy>Littleton Prep</cp:lastModifiedBy>
  <dcterms:modified xsi:type="dcterms:W3CDTF">2008-04-11T21:50:34Z</dcterms:modified>
  <cp:revision>10</cp:revision>
  <dc:subject/>
  <dc:title>Byzantine art </dc:title>
</cp:coreProperties>
</file>