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CC361-4BE3-41D3-994C-1FA12C071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A8A3B-B2AF-4684-A473-2B9367E67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99173-4687-4328-A999-B5941647F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29A09-8E29-4845-9E3F-2B6AFB409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779BC-16FF-4680-9F3E-5712640BD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8F7F-1E17-46A1-A5F2-734A5AF45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E6B8A-BA62-4D7E-914F-5FBA5790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26771-5726-4773-B58F-DAE0F28C7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5E6DE-18B3-4D84-9816-56363DCB8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29E0C-7BEC-4A73-8CA4-9CDA81568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D5298-FC64-44F5-A843-27DA5003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DC5E-050C-46CD-90D6-17982C5E6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F9D5-2209-4B34-A4AC-D4F28B0172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5:46Z</dcterms:modified>
  <cp:revision>3</cp:revision>
  <dc:subject/>
  <dc:title>China</dc:title>
</cp:coreProperties>
</file>