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4FB-E94C-42A5-974D-E0CD5BDA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20D7-3A86-4BB2-B993-A18D0179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FD5-AFD0-49C7-BD4B-05224DBD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004-9224-4247-9C21-7DC6FBF1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94F-C270-40A8-9B11-AD1F68A3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324-83E0-4DDC-A0D7-8E4AC710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B9F-01BA-444F-9EA1-A340703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0D8-27B5-4A32-9A98-83872DBE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B7A-332A-4BFE-9A60-26FC1836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0C0-9D40-41A7-B026-D79BC12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8E1-12A4-427E-BD33-AAD470CB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75E-CFF1-4E93-89C0-E810ADC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8096-BEDF-4622-B3A2-938998AE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hotorealism" TargetMode="External"/><Relationship Id="rId2" Type="http://schemas.openxmlformats.org/officeDocument/2006/relationships/hyperlink" Target="http://en.wikipedia.org/wiki/Hyperrealism_(painting)" TargetMode="External"/><Relationship Id="rId3" Type="http://schemas.openxmlformats.org/officeDocument/2006/relationships/hyperlink" Target="http://en.wikipedia.org/wiki/University_of_Washington" TargetMode="External"/><Relationship Id="rId4" Type="http://schemas.openxmlformats.org/officeDocument/2006/relationships/hyperlink" Target="http://en.wikipedia.org/wiki/Seattle" TargetMode="External"/><Relationship Id="rId5" Type="http://schemas.openxmlformats.org/officeDocument/2006/relationships/hyperlink" Target="http://en.wikipedia.org/wiki/Yale_University" TargetMode="External"/><Relationship Id="rId6" Type="http://schemas.openxmlformats.org/officeDocument/2006/relationships/hyperlink" Target="http://en.wikipedia.org/wiki/Master_of_Fine_Arts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t of his early works are very large portraits based on photograph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yper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echnique). In 1962, he received his B.A. from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versity of Washingt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att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He then attended graduate school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ale Universi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where he received 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F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1964. After Yale, he lived in Europe for a while on a Fulbright grant. When he returned to the US, he worked as an art teacher at the University of Massachuset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mage:Chuck Close 1.jpg"/>
          <p:cNvPicPr/>
          <p:nvPr/>
        </p:nvPicPr>
        <p:blipFill>
          <a:blip r:embed="rId7"/>
          <a:stretch/>
        </p:blipFill>
        <p:spPr>
          <a:xfrm>
            <a:off x="4648320" y="1523880"/>
            <a:ext cx="417168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huck_close_at_work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5638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chuck_close_kiki_detail"/>
          <p:cNvPicPr/>
          <p:nvPr/>
        </p:nvPicPr>
        <p:blipFill>
          <a:blip r:embed="rId1"/>
          <a:stretch/>
        </p:blipFill>
        <p:spPr>
          <a:xfrm>
            <a:off x="914400" y="228600"/>
            <a:ext cx="7086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hotograph tha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it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it on your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your t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10 colors in a colors scheme that range in values from almost white to almost bl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mage:Chuck Close 2.jpg"/>
          <p:cNvPicPr/>
          <p:nvPr/>
        </p:nvPicPr>
        <p:blipFill>
          <a:blip r:embed="rId1"/>
          <a:stretch/>
        </p:blipFill>
        <p:spPr>
          <a:xfrm>
            <a:off x="1092240" y="1600200"/>
            <a:ext cx="695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icture%2014.png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Portrait/Scribble/Etching Portfo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19440" cy="419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77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9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ylic on canv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Close, Kiki"/>
          <p:cNvPicPr/>
          <p:nvPr/>
        </p:nvPicPr>
        <p:blipFill>
          <a:blip r:embed="rId1"/>
          <a:stretch/>
        </p:blipFill>
        <p:spPr>
          <a:xfrm>
            <a:off x="457200" y="152388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5160" cy="670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724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572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9:09:26Z</dcterms:created>
  <dc:creator>Littleton Prep</dc:creator>
  <dc:description/>
  <dc:language>en-US</dc:language>
  <cp:lastModifiedBy>Littleton Prep</cp:lastModifiedBy>
  <dcterms:modified xsi:type="dcterms:W3CDTF">2008-10-16T01:37:57Z</dcterms:modified>
  <cp:revision>4</cp:revision>
  <dc:subject/>
  <dc:title>Chuck Close</dc:title>
</cp:coreProperties>
</file>