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98F-DBFA-44C5-887B-EA5D7FFD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F92-8115-4BAF-95F2-D3FE4E01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BCD-C367-4847-BA00-C1792084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A979-AFA9-4B21-88D5-5B881CCA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A2F-69AB-44B9-94D8-AF76BF39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A39-B99F-44F2-9F44-39E527F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F1F-8E43-4969-8AF1-2C97B1C9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6A0-BC85-49F4-98F7-FFB631B1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D0F-AF17-46BC-BD15-4FA4B4E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D0E-DE61-4E83-9C29-4620FAA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C87-1BBF-4F66-BB7F-F5F48FF4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BB3-9F24-4AC9-84CE-19526DFB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C4F6-5419-46FB-9029-3BBEA61E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hotorealism" TargetMode="External"/><Relationship Id="rId2" Type="http://schemas.openxmlformats.org/officeDocument/2006/relationships/hyperlink" Target="http://en.wikipedia.org/wiki/Hyperrealism_(painting)" TargetMode="External"/><Relationship Id="rId3" Type="http://schemas.openxmlformats.org/officeDocument/2006/relationships/hyperlink" Target="http://en.wikipedia.org/wiki/University_of_Washington" TargetMode="External"/><Relationship Id="rId4" Type="http://schemas.openxmlformats.org/officeDocument/2006/relationships/hyperlink" Target="http://en.wikipedia.org/wiki/Seattle" TargetMode="External"/><Relationship Id="rId5" Type="http://schemas.openxmlformats.org/officeDocument/2006/relationships/hyperlink" Target="http://en.wikipedia.org/wiki/Yale_University" TargetMode="External"/><Relationship Id="rId6" Type="http://schemas.openxmlformats.org/officeDocument/2006/relationships/hyperlink" Target="http://en.wikipedia.org/wiki/Master_of_Fine_Arts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t of his early works are very large portraits based on photographs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real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yperrealis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echnique). In 1962, he received his B.A. from th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niversity of Washingt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eatt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 He then attended graduate school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ale Universi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where he received hi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F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 1964. After Yale, he lived in Europe for a while on a Fulbright grant. When he returned to the US, he worked as an art teacher at the University of Massachuset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mage:Chuck Close 1.jpg"/>
          <p:cNvPicPr/>
          <p:nvPr/>
        </p:nvPicPr>
        <p:blipFill>
          <a:blip r:embed="rId7"/>
          <a:stretch/>
        </p:blipFill>
        <p:spPr>
          <a:xfrm>
            <a:off x="4648320" y="1523880"/>
            <a:ext cx="4171680" cy="3505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chuck_close_at_work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5638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chuck_close_kiki_detail"/>
          <p:cNvPicPr/>
          <p:nvPr/>
        </p:nvPicPr>
        <p:blipFill>
          <a:blip r:embed="rId1"/>
          <a:stretch/>
        </p:blipFill>
        <p:spPr>
          <a:xfrm>
            <a:off x="914400" y="228600"/>
            <a:ext cx="7086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photograph that you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it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it on your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your t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 10 colors in a colors scheme that range in values from almost white to almost bl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Image:Chuck Close 2.jpg"/>
          <p:cNvPicPr/>
          <p:nvPr/>
        </p:nvPicPr>
        <p:blipFill>
          <a:blip r:embed="rId1"/>
          <a:stretch/>
        </p:blipFill>
        <p:spPr>
          <a:xfrm>
            <a:off x="1092240" y="1600200"/>
            <a:ext cx="6958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ck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icture%2014.png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Portrait/Scribble/Etching Portfol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 (American, born 194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619440" cy="419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 (American, born 1940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771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uck Clos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ck Clos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99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ylic on canv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Close, Kiki"/>
          <p:cNvPicPr/>
          <p:nvPr/>
        </p:nvPicPr>
        <p:blipFill>
          <a:blip r:embed="rId1"/>
          <a:stretch/>
        </p:blipFill>
        <p:spPr>
          <a:xfrm>
            <a:off x="457200" y="152388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5160" cy="670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72464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572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9:09:26Z</dcterms:created>
  <dc:creator>Littleton Prep</dc:creator>
  <dc:description/>
  <dc:language>en-US</dc:language>
  <cp:lastModifiedBy>Littleton Prep</cp:lastModifiedBy>
  <dcterms:modified xsi:type="dcterms:W3CDTF">2008-10-16T01:37:57Z</dcterms:modified>
  <cp:revision>4</cp:revision>
  <dc:subject/>
  <dc:title>Chuck Close</dc:title>
</cp:coreProperties>
</file>