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645-2982-429B-BDED-CB6230FB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301-C554-4420-AB03-03FA0B17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7AC-C981-4454-BAFC-96182E4B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8CB-848D-4E93-BF89-2704C6AC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369-3A92-4294-8B9F-3009DD06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B69-412E-4419-8B4F-BA410AB8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051-6A60-41DB-B4C0-EA30CC1D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9BC-69AB-45EF-A496-A2335EA7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A1E-3892-40C9-B217-B65BC85A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65D-E3DF-4EA2-8E08-4AD153F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155-C3CA-41B7-A311-13965C3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6B9-D2D7-4609-AEC6-120E4346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D135-9AA1-4132-9B9D-6036B348E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ude Monet: Tulips in Hol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 painted with oils. Some people say that his paintings look “foggy”. He was an “impressionist paint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&quot;Tulips in Holland&quot; Pre-made Frame"/>
          <p:cNvPicPr/>
          <p:nvPr/>
        </p:nvPicPr>
        <p:blipFill>
          <a:blip r:embed="rId1"/>
          <a:stretch/>
        </p:blipFill>
        <p:spPr>
          <a:xfrm>
            <a:off x="1295280" y="533520"/>
            <a:ext cx="6782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paint this work of ar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we will draw th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 will use oil pas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 will add additional colors with pastels or/and ch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Impressionist paintings were very colo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9:37:13Z</dcterms:created>
  <dc:creator>Littleton Prep</dc:creator>
  <dc:description/>
  <dc:language>en-US</dc:language>
  <cp:lastModifiedBy>Littleton Prep</cp:lastModifiedBy>
  <dcterms:modified xsi:type="dcterms:W3CDTF">2008-01-22T20:03:54Z</dcterms:modified>
  <cp:revision>2</cp:revision>
  <dc:subject/>
  <dc:title>Claude Monet: Tulips in Holland</dc:title>
</cp:coreProperties>
</file>