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7BE3-F14D-4770-A9FC-E69F2BC5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9C2-6C3A-4AC9-B4B8-43CEEFF6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7FA4-B43A-4312-B6DC-6FD6597B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C8A-405A-4CC2-9975-378806F4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D24-9E16-407C-A2FB-3BD061CD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30AF-2443-4BB2-8927-0F2B8AF8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885-E005-46DC-AA41-E49EEB6A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8D9D-8C4B-4E44-9A21-7172E862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616D-4BA6-4D3B-8111-558E6980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392-BBA6-4880-852B-7115CAF3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7A4-78CE-46EC-9466-E76409A3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542-2755-472F-9400-BCA2A5BD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CA6F-6EC5-4433-9BDD-0D6D01137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ude Monet: Tulips in Hol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 painted with oils. Some people say that his paintings look “foggy”. He was an “impressionist painte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&quot;Tulips in Holland&quot; Pre-made Frame"/>
          <p:cNvPicPr/>
          <p:nvPr/>
        </p:nvPicPr>
        <p:blipFill>
          <a:blip r:embed="rId1"/>
          <a:stretch/>
        </p:blipFill>
        <p:spPr>
          <a:xfrm>
            <a:off x="1295280" y="533520"/>
            <a:ext cx="6782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going to paint this work of ar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we will draw the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we will use oil past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we will add additional colors with pastels or/and ch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 Impressionist paintings were very colo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9:37:13Z</dcterms:created>
  <dc:creator>Littleton Prep</dc:creator>
  <dc:description/>
  <dc:language>en-US</dc:language>
  <cp:lastModifiedBy>Littleton Prep</cp:lastModifiedBy>
  <dcterms:modified xsi:type="dcterms:W3CDTF">2008-01-22T20:03:54Z</dcterms:modified>
  <cp:revision>2</cp:revision>
  <dc:subject/>
  <dc:title>Claude Monet: Tulips in Holland</dc:title>
</cp:coreProperties>
</file>