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74E-F768-48A8-8280-FB5A738B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E15-F844-486A-B0CB-460397D8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AAF-E810-49D1-9134-955AD24A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FCE-DB04-4BF6-82E2-5A292203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09D-EF70-462B-A1E4-C72702A7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A68-4215-4406-99AA-8028C467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8D6-0628-4E6D-BC9E-D08D27F4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DA2-2B60-41A4-BA28-1975D1B6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EC0-3D79-4F73-AB5D-F8EEBC90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A0A-97E8-479E-8E7A-C09C451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EAB-65A0-45C6-849D-A993BF9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E25-E739-4B3D-BF5F-7864A99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2E26-245C-4E3A-BBDD-BCD5AA023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go Ri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Hel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go Rivera: 1886-19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Diego Rivera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’s Hel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other's Helper Art Print by Diego Rivera"/>
          <p:cNvPicPr/>
          <p:nvPr/>
        </p:nvPicPr>
        <p:blipFill>
          <a:blip r:embed="rId1"/>
          <a:stretch/>
        </p:blipFill>
        <p:spPr>
          <a:xfrm>
            <a:off x="2057400" y="1295280"/>
            <a:ext cx="6515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5:37:36Z</dcterms:created>
  <dc:creator>Littleton Prep</dc:creator>
  <dc:description/>
  <dc:language>en-US</dc:language>
  <cp:lastModifiedBy>Littleton Prep</cp:lastModifiedBy>
  <dcterms:modified xsi:type="dcterms:W3CDTF">2008-05-05T15:37:44Z</dcterms:modified>
  <cp:revision>1</cp:revision>
  <dc:subject/>
  <dc:title>Diego Rivera</dc:title>
</cp:coreProperties>
</file>